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5D08-4C41-436B-A4F1-4EB11184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0FF1-C111-479A-A9C4-E093EAFE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58B9-BBF5-4216-9F87-4F877D39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6706-EB2F-4C28-9579-410416CB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0FEE-43B8-44FD-95A7-69FACF2E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1A84-D6DD-4CC8-BACB-2D215EF6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864D-D15A-4E60-BA9C-8ED661D2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D66F-AD89-49CF-A26A-FE493287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8B6D-13E1-4557-AE46-9204B710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444C-81EE-49E1-B38F-7E53557E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F3D3-40A7-4E1A-A755-1AF7976A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D33F-BE11-4BF3-A0A2-FE680E49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7D3D-DEB2-4B6D-A355-61C25991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AB29-2D88-4CA5-8C33-1B7450E9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C68B-C25A-44C2-AE9E-E37D31B4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6636-103C-4A36-9F38-7C322A47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2AC6-A751-4695-9041-92E39201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6CB8-8DE8-44BE-B714-32D97418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7FE3-CCB2-497D-A2CB-1459EE47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241-3C61-4B3A-9110-EE624763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1CD6-B492-43BC-B4D0-C14E758D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418-860C-4EDB-8A67-8DACA991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4B4A-C0E1-4E9E-99E8-31254531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DB5B-3DE8-4C6F-B758-439D0E58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F612-AB3C-44B0-A2F3-7D2D8B7B38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0ABB-35BF-4F1D-98BB-3A41712E24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fskn.tatar.ru/" TargetMode="External"/><Relationship Id="rId2" Type="http://schemas.openxmlformats.org/officeDocument/2006/relationships/hyperlink" Target="http://ufskn.tatar.ru/" TargetMode="External"/><Relationship Id="rId3" Type="http://schemas.openxmlformats.org/officeDocument/2006/relationships/hyperlink" Target="http://ufskn.tatar.ru/" TargetMode="External"/><Relationship Id="rId4" Type="http://schemas.openxmlformats.org/officeDocument/2006/relationships/hyperlink" Target="http://ufskn.tatar.ru/" TargetMode="External"/><Relationship Id="rId5" Type="http://schemas.openxmlformats.org/officeDocument/2006/relationships/hyperlink" Target="http://ufskn.tatar.ru/" TargetMode="External"/><Relationship Id="rId6" Type="http://schemas.openxmlformats.org/officeDocument/2006/relationships/hyperlink" Target="http://ufskn.tatar.ru/" TargetMode="External"/><Relationship Id="rId7" Type="http://schemas.openxmlformats.org/officeDocument/2006/relationships/hyperlink" Target="http://ufskn.tatar.ru/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40360" y="2852280"/>
            <a:ext cx="466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harlemagne Std"/>
              </a:rPr>
              <a:t>Обеспечение информационной безопасности в подростково-молодежной среде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184" t="30287" r="-1037" b="35427"/>
          <a:stretch/>
        </p:blipFill>
        <p:spPr>
          <a:xfrm>
            <a:off x="1332000" y="2276640"/>
            <a:ext cx="2735280" cy="2482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635280" y="4941720"/>
            <a:ext cx="466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harlemagne Std"/>
              </a:rPr>
              <a:t>Кудряшова Людмила Анатольевна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Charlemagne Std"/>
              </a:rPr>
              <a:t>помощник начальника УФСКН России по 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765000"/>
            <a:ext cx="7620120" cy="546264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0672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Сайт Управления Федеральной службы Российской Федерации по контролю за оборотом наркотиков по Республике Татарста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ufskn</a:t>
            </a:r>
            <a:r>
              <a:rPr b="0" lang="ru-RU" sz="3200" spc="-1" strike="noStrike" u="sng">
                <a:solidFill>
                  <a:srgbClr val="66006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5"/>
              </a:rPr>
              <a:t>tatar</a:t>
            </a:r>
            <a:r>
              <a:rPr b="0" lang="ru-RU" sz="3200" spc="-1" strike="noStrike" u="sng">
                <a:solidFill>
                  <a:srgbClr val="660066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7"/>
              </a:rPr>
              <a:t>r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3805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Информационная безопасность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73360"/>
            <a:ext cx="762012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Доктрина информационной безопасности РФ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Под информационной безопасностью Российской Федерации понимается состояние защищенности ее национальных интересов в информационной сфере, определяющихся совокупностью сбалансированных интересов личности, общества и государ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Информационная безопасность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Информационная безопасность – это такое состояние социума, при котором обеспечена надежная и всесторонняя защита личности, общества и государства от воздействия на них особого вида угроз, выступающих в форме организованных информационных потоков и направленных на деформацию общественного и индивидуального созна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Информационная безопасность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560" y="2060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Информационная угроза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– опасность, содержание которой составляют различная информация или ее комбинации, которые могут быть использованы против социального или социально-технического объекта (системы) с целью изменения его интересов, потребностей, ориентаций в соответствии с целями субъекта информ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7273800" cy="46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Интернет – это распределенная всемирная база знаний, включающая в себя множество различных информационных массивов (информационных ресурсов, баз данных или знаний), состоящих из документов, данных, текстов, объединенных между собой трансграничной телекоммуникационной информационной паутиной или сетью.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260280"/>
            <a:ext cx="81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Информационная безопас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Информационная безопасность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Роскомнадзо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Сформировать обращ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Данная форма является официальным обращением в Федеральную службу по надзору в сфере связи, информационных технологий и массовых коммуникаций (Роскомнадзор) и влечет правовые последствия, которые предусмотрены положениями Федеральный закон Российской Федерации от 2 мая 2006 г. N 59-ФЗ "О порядке рассмотрения обращений граждан Российской Федерации"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Для отправки обращения необходимо корректно заполнить все поля, отмеченные *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560" y="38052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Информационная безопасность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90920" y="2081160"/>
            <a:ext cx="45720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Информационная безопасность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3 основных правила пользования Интернет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1) Обеспечите защиту компьютер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2) Обеспечите защиту от Интерн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3) Закон необходимо соблюдать и в Интерне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Информационная безопасность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Правила безопасного пользования Интернетом подросткам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Я спрашиваю разрешения у родителей перед использованием компьютер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Я держу свой пароль в тайне от все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Я открываю сообщение только если они пришли от знакомы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Я всегда сообщаю родителям о возможных проблема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Я использую компьютер максимально 1 час в ден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Я обговариваю с родителями веб-сайты, которые можно посещ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1:35:17Z</dcterms:created>
  <dc:creator>ostroumova</dc:creator>
  <dc:description/>
  <dc:language>en-US</dc:language>
  <cp:lastModifiedBy>user</cp:lastModifiedBy>
  <dcterms:modified xsi:type="dcterms:W3CDTF">2013-09-19T08:39:07Z</dcterms:modified>
  <cp:revision>15</cp:revision>
  <dc:subject/>
  <dc:title>АНТРОПОЦЕНТРИЧЕСКАЯ МОДЕЛЬ ПРОФИЛАКТИКИ НАРКОТИЗАЦИИ            В СИСТЕМЕ СЕМЕЙНЫХ ОТНОШЕНИЙ</dc:title>
</cp:coreProperties>
</file>