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79C-16CA-4C68-B347-C418361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779-FD57-4331-9F1D-F4913D0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281-8D7A-44C2-AB26-556857D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935-55A5-4947-B679-7C2F2C54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51BC-2743-41F9-BD02-20887363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B2C1-D628-4D53-BBE0-DD6357CC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3648-76CB-457F-BFAE-B373209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64AD-9654-4305-8176-10F25D8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184-5F71-449B-87F4-8CFA5B6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5B6-50FC-40EE-BF55-3D31E868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22F-4B9F-49E5-8C65-B4C02F1A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450-B901-4598-A6E8-82E7B9B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6752-FA65-4801-B355-CD68880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0CD2-CAAC-4305-9638-D5B1972C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3E6E-F016-4D53-912E-AB73EEB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AE24-1D31-4C61-8F6A-1B438870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DF54-8C6C-4A01-B932-F16F3C59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AB8-E7A3-4423-A7DA-980C45D9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AE1-9C9B-4EA6-9F0D-D52529D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375-667B-4490-9834-D5A4EB8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6DC-99EB-4614-BE5F-0692424B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628-1360-4761-9CCC-9F0522F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2EF-E56D-4C27-9F39-5C288F7E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702-38F5-4D3A-B56E-2146A34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E68F-03A8-45C0-BF15-C84BF9C04B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678-6521-420A-B430-15762621C5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fskn.tatar.ru/" TargetMode="External"/><Relationship Id="rId2" Type="http://schemas.openxmlformats.org/officeDocument/2006/relationships/hyperlink" Target="http://ufskn.tatar.ru/" TargetMode="External"/><Relationship Id="rId3" Type="http://schemas.openxmlformats.org/officeDocument/2006/relationships/hyperlink" Target="http://ufskn.tatar.ru/" TargetMode="External"/><Relationship Id="rId4" Type="http://schemas.openxmlformats.org/officeDocument/2006/relationships/hyperlink" Target="http://ufskn.tatar.ru/" TargetMode="External"/><Relationship Id="rId5" Type="http://schemas.openxmlformats.org/officeDocument/2006/relationships/hyperlink" Target="http://ufskn.tatar.ru/" TargetMode="External"/><Relationship Id="rId6" Type="http://schemas.openxmlformats.org/officeDocument/2006/relationships/hyperlink" Target="http://ufskn.tatar.ru/" TargetMode="External"/><Relationship Id="rId7" Type="http://schemas.openxmlformats.org/officeDocument/2006/relationships/hyperlink" Target="http://ufskn.tatar.ru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40360" y="2852280"/>
            <a:ext cx="466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harlemagne Std"/>
              </a:rPr>
              <a:t>Обеспечение информационной безопасности в подростково-молодежной сред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84" t="30287" r="-1037" b="35427"/>
          <a:stretch/>
        </p:blipFill>
        <p:spPr>
          <a:xfrm>
            <a:off x="1332000" y="2276640"/>
            <a:ext cx="2735280" cy="248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4941720"/>
            <a:ext cx="466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harlemagne Std"/>
              </a:rPr>
              <a:t>Кудряшова Людмила Анатольевна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Charlemagne Std"/>
              </a:rPr>
              <a:t>помощник начальника УФСКН России по 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765000"/>
            <a:ext cx="7620120" cy="54626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0672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Сайт Управления Федеральной службы Российской Федерации по контролю за оборотом наркотиков по Республике Татарст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ufskn</a:t>
            </a: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tatar</a:t>
            </a: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6201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Доктрина информационной безопасности РФ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од информационной безопасностью Российской Федерации понимается состояние защищенности ее национальных интересов в информационной сфере, определяющихся совокупностью сбалансированных интересов личности, общества 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Информационная безопасность – это такое состояние социума, при котором обеспечена надежная и всесторонняя защита личности, общества и государства от воздействия на них особого вида угроз, выступающих в форме организованных информационных потоков и направленных на деформацию общественного и индивидуального созн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нформационная угроза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– опасность, содержание которой составляют различная информация или ее комбинации, которые могут быть использованы против социального или социально-технического объекта (системы) с целью изменения его интересов, потребностей, ориентаций в соответствии с целями субъекта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2738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нтернет – это распределенная всемирная база знаний, включающая в себя множество различных информационных массивов (информационных ресурсов, баз данных или знаний), состоящих из документов, данных, текстов, объединенных между собой трансграничной телекоммуникационной информационной паутиной или сетью.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6028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Роскомнадзо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формировать обра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Данная форма является официальным обращением в Федеральную службу по надзору в сфере связи, информационных технологий и массовых коммуникаций (Роскомнадзор) и влечет правовые последствия, которые предусмотрены положениями Федеральный закон Российской Федерации от 2 мая 2006 г. N 59-ФЗ "О порядке рассмотрения обращений граждан Российской Федерации"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Для отправки обращения необходимо корректно заполнить все поля, отмеченные 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2081160"/>
            <a:ext cx="457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3 основных правила пользования Интернет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) Обеспечите защиту компьюте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2) Обеспечите защиту от Интерн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3) Закон необходимо соблюдать и в Интерне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Информационная безопасность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равила безопасного пользования Интернетом подростк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спрашиваю разрешения у родителей перед использованием компьюте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держу свой пароль в тайне от все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открываю сообщение только если они пришли от знаком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всегда сообщаю родителям о возможных проблем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использую компьютер максимально 1 час в ден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Я обговариваю с родителями веб-сайты, которые можно посещ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1:35:17Z</dcterms:created>
  <dc:creator>ostroumova</dc:creator>
  <dc:description/>
  <dc:language>en-US</dc:language>
  <cp:lastModifiedBy>user</cp:lastModifiedBy>
  <dcterms:modified xsi:type="dcterms:W3CDTF">2013-09-19T08:39:07Z</dcterms:modified>
  <cp:revision>15</cp:revision>
  <dc:subject/>
  <dc:title>АНТРОПОЦЕНТРИЧЕСКАЯ МОДЕЛЬ ПРОФИЛАКТИКИ НАРКОТИЗАЦИИ            В СИСТЕМЕ СЕМЕЙНЫХ ОТНОШЕНИЙ</dc:title>
</cp:coreProperties>
</file>