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31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8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3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FEE7FF-1707-4161-8A06-AA2C78CF9F9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35B91BD4-9CE9-47D4-A0AE-BB29B226B6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2FA3445E-832A-4150-98E0-40CD0B18A4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0D4C6677-47BB-41BB-8986-5C46878698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FB768A61-A609-48E4-9FA8-A92EFCDDB8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CB67166B-EA7C-4ACE-9DD7-DF222AF950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2D5C1FEE-0A9C-4962-9B53-AFA2F1C724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4C011F63-19CB-442F-A633-7F8FFB88D7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46E3BF00-CB0B-43D0-8651-D2AA127E1B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28B4EC5E-5D66-4AE7-8DEB-30FA947AB6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D2F91647-AA43-4290-86AD-33280ABFBA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D7A88174-8E5A-44F1-9DBC-4102C4C86B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E4ED7874-A031-4BDD-BB9A-90993CD6E8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BF7E247D-B170-4CB2-AFAB-B7832009EB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66AA8E13-6FDB-4AEC-90FB-8F1F366F17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11D78E50-54EB-4FA4-BD8E-A4C60BF8F8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4278240" y="10158480"/>
            <a:ext cx="328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93E4F4-6233-43CD-952C-097C22F5906E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2B255C52-E6EB-4BD6-ABF8-FE008CEE00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45880"/>
              </a:tabLst>
            </a:pPr>
            <a:fld id="{AA4E00FA-FB16-40E5-BA03-3CDAA7D558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C29483-9EAC-456C-823D-89929A3EAF3E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D54DB4-CD38-47F8-B831-7F3808E0BDA9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08080" y="81432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4278240" y="10156680"/>
            <a:ext cx="3279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C92-C022-49A7-8BB4-CD73371B53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35C-C911-4518-A6F8-23C2AF76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FE6-9247-49A4-90CF-F7A9231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85E00-21DA-4527-87C6-656B4F8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CB109-9C54-4590-909B-FD1AF34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DB5196-5743-4BBA-8520-1D8BB002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F13EA-283A-4C50-A797-F2B36E22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A94A5-9728-4609-836A-E7BA9EC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749AA-CA0D-4EF6-8674-E15939D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856C4-173A-4D32-9BE1-489CFFE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EBF45-EA2B-4B7E-88E0-CDA8C37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1A9C8-B5D6-4A4D-A712-3E2701F85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9969-66B6-4799-B060-F4DD4A7F7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853-CDE8-4AAA-A11E-DE2A2B1C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D1E6-C0E9-46F4-AFB8-3D087619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25D87-06EC-445A-B422-62633FBE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3CE3-A73C-42D2-95EE-05A9C2D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21D9-5A6C-4DDB-8ADD-8DCBF8C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7102-4C91-44F6-897A-14517B5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B745-66A3-4D58-B9F1-B9E73A2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E4D7-620A-480C-9A22-3AFC293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CDC1-A8AC-48B7-B320-96DE629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6D30-3C42-4764-9801-81A2981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D9D1-B475-49CD-801F-8F34769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187-9BFB-4C5F-BAC4-45927D47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6386-B93A-4C18-B49F-641D1D547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ABDFA-EE88-425D-B821-7646DC663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E414E-93BB-4B5F-8B80-09580B9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DAABA-770E-43E9-9D83-361A8E0F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491C0-82C4-468E-98E4-9CC1AFA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7B56A-89AE-4A29-B51C-E3ED6A3E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AA346-4C7D-4317-BEC0-D2DB7DFA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E5360-3E3D-4AB0-BD60-D3271CB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F3A96-B11D-4D83-9372-975FCD5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53B3A-558D-4283-9DF9-3D1594C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99B9-5079-43BB-9A35-B1ECB9CD8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7B8BED-4096-4B8E-91E1-7C28E2B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62F65-D9B0-4A49-97C7-48DDB9E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F5856-D4F3-4088-8DEF-178952B2B5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30AAE-AA08-4323-A2E9-299DE847A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2AD68-3DA4-4902-86F2-B585AFF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64736-654B-46D8-93A1-404DC34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FBBD8-AAB7-4F37-9A8E-5320F30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8899D-0888-4A95-A632-B55C70DF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8A63C-B703-49C0-8EDB-3D2574A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8347A-2D33-4C97-9E4A-65A583F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6215-6073-4421-AA2A-34852B0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D855C-60A6-4361-8E13-B51F3E7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63ED8-2022-4C2A-A7FB-859557E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F424A-66DB-49D4-B16B-9CAECAE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67252-96F1-4ABC-AD82-0BE856A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6869E-0359-4DD5-AA71-7F057ECA4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91E5-D06E-4255-A896-9DF810628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4B1B7-647F-4188-AC81-60C19F4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9DF4F-E518-4184-AC6E-FD41EA47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9A47-8B27-4801-AA7E-4388B37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6E660-BE51-44E6-A773-94A0323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366D-B345-4205-9764-9355C4B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DB045-5BB2-4A0D-9F0F-172ECE5C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F3DBF-CE98-4918-A6C1-D976D6A9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E48E-E330-4390-A408-799A77B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D3EA6-947D-49A9-A620-1DBF29A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938E-A75B-4519-9B3F-D98FDCC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ACECA-36A0-4A26-9D91-69CAC1A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C00A0-3FDF-432C-8E9E-7F4B9389C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251E0-2E76-4C7C-833E-A65680F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503C5-2A02-4A50-9978-6582363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1EBD7-4D9D-4CF8-B06C-0255252A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EF453-F4DC-4B38-8ED1-6139061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218-DE83-4161-89B6-8EDDC03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ED8B5-D496-4FD5-AAC4-9B59C62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3D713-E93A-4EEA-AB78-43DCD53A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BAE89-B1F2-40A3-9FD4-CF62CF3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C0E2-FE8D-47EF-AC82-E64199C2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3254-CC80-43E2-BF52-BF7B208F2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830E3-D651-4082-9932-69A32BE09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03008-92BB-42D5-BD61-EC91F49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A3DDA-948F-4B4E-97FA-E1736D6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989D7-EBCA-4123-BC68-01616C7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D3228-2988-4A4F-9A27-C4BA3B2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4CE-3B8F-4B6B-AC85-A20EED67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00A94-E6E3-47E8-A513-B1587AFB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B2EC1-76E3-46B9-AF71-D8CAA18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61B9E-CC36-4B77-8E01-846EED7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5D483-8DAC-4D7B-B418-4E29BB3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02EF9-50F2-495D-9710-2EA1631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AB397-6093-4BD9-A95E-91D3E5C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C710B-1154-4912-A944-C57317D1E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B1DC-E614-4164-BB7E-5CF364A33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E703-0E33-4817-B9BF-1CC36F6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0026-BA70-493F-9F33-28289F6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FE6-877D-4A1C-887B-67AA340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AA46-9E0E-49AC-99DC-31DBABF3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8633-E0A0-4DCE-9B07-17BC828B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4A6A-3A13-4B04-8538-878F6BFE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B89D-6F65-4610-8156-D9A933D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8D82-FEDC-4CE3-8553-7AD4167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F9E4-E72A-4054-BF50-F8F03AD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3686-058E-4757-B5B4-93B300E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669E-5F71-4B4A-B6E2-CB3D091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8A56-4DD7-491C-8585-73C88D086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AA26D-A05F-49A2-9E7D-15C46D9B3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F7C-05DD-4F91-B37B-BF75C389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46503-E2EB-4B40-A659-0842E53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94BF0-70AF-4974-BF53-0BB7EF6E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C38FE-B4E8-4C21-9825-170AF7D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44A51-7D1F-4DB8-ADC9-665F1172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A71C9-A965-42E1-ABC2-44D7CF7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4A061-C327-4490-A956-327083D8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4F5C0-048A-4A9B-8A11-01DA287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1D3D7-615A-4BCC-A55A-B986D380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B5511-3758-45EB-99A4-2257FD2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E1FB8-9A41-41E1-9A3A-5B40C3B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D43-5406-444C-A1CB-80AECB9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EFD51-4A31-4414-9493-D15C68364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E2CF3-C33B-4817-AF20-2FE61D85B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3BDE7-6FB7-4290-B6AE-7EB342E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A751B-EB5E-4304-93E2-787D16E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4CC7C-8547-45B7-9BCB-DB4C598A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7B8B5B-2865-4585-A3B9-C5BE937C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2E6B30-4CE9-4C03-B886-0009E982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E3AE7-056B-4150-AF4A-C68FF0E2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B591B-BCF7-4B24-BFBA-5A6DFA3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167A5-980E-4F85-AF4A-09D3E66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764-2FF5-4241-97D7-F8C9C59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A8FB7A-7E6B-43E0-A966-B339201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60729-8BF6-4411-9A1D-2917632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054A8-9BE4-4931-9F38-C82C3E2E39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6033-0B21-4CEE-88EE-39AAB8BC8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5553-F984-4913-B8CA-96F1F2B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4058-7271-40F2-ABC6-6F448E4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2CF8-E0C0-4840-A6E6-02D4B36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27A3-4D77-4547-94E9-5E9797AE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5137-DD30-457A-BDEF-8BB8759B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AE74-F140-41C6-A92B-60630B0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D07-D529-4AF4-AE6D-E58B341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74F3-AF8F-42F5-B20B-E23633B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C6BF-6DA8-4DEC-A371-7ABB4903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0F15-8CFF-47C8-9632-64B2B42B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378E-BD72-400B-AC4B-FE9795F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3D0B-4CE6-40D1-ACFD-A0BF1EBD6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8B585-A0AC-4C7E-9385-44D95B9F8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D3BAD-5623-4DA6-98A9-0C2E406C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59651-DBF0-43C4-8DAC-5DEBB06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DF517-5939-40AB-812F-D9C3D34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1707B-DD7F-4345-ADCF-7DAC5F67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FC7-EB71-48D1-A8A5-2B64AB5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F0B6F-7B49-45BD-811A-3090B394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DC330-D4B2-4C2D-B3BC-B543A49A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324A9-038D-430C-92D1-8792A086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FB918-C972-4F18-8AAE-20DACA6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E8630-73A5-4269-A1FA-A339B7E4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50F2A-7256-4C4E-8D87-58EA012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710EF-F551-4B76-975B-34943E3F1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07FA45-C4CE-4300-B84F-EAE7A1284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A4DEF-DAF9-478E-8F96-128EF32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29BC3-6467-47FE-B5DB-B056CCA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9EF8-D1F8-4E2A-BB3F-B9CB0CE30E1F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206-DD33-4D7B-B2CD-0D857AD226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0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0EBC-F45D-4B04-91F9-058657F1E89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4A4-9ABE-4CA1-9DCC-CE2E23F419A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721D-B6C3-4536-A2A6-D5F1C179F39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A6D-6034-43D4-8220-C904276A521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2E5002-4198-44E8-A373-8727F2F8271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FC1-E041-4A36-B3AF-5FAB8A4C754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946-13CC-42AD-8966-7D8FBE3DCE0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9BB-F165-4F07-94F6-3C332053D18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2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3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A40E-6A9B-4805-900F-87DCDDA4A1B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4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C6FB-D7DA-4E66-BFF1-F4EC6498699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2AE-944A-4D23-A74D-D0C523C0658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3124080" y="6291360"/>
            <a:ext cx="289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8"/>
          </p:nvPr>
        </p:nvSpPr>
        <p:spPr>
          <a:xfrm>
            <a:off x="457200" y="6288120"/>
            <a:ext cx="213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88120"/>
            <a:ext cx="2132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056-B4EB-457A-872A-91ADA1A49F3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hyperlink" Target="mailto:rcvr2014@mail.ru" TargetMode="External"/><Relationship Id="rId5" Type="http://schemas.openxmlformats.org/officeDocument/2006/relationships/hyperlink" Target="mailto:rcvr2014@mail.ru" TargetMode="External"/><Relationship Id="rId6" Type="http://schemas.openxmlformats.org/officeDocument/2006/relationships/hyperlink" Target="mailto:rcvr2014@mail.ru" TargetMode="External"/><Relationship Id="rId7" Type="http://schemas.openxmlformats.org/officeDocument/2006/relationships/hyperlink" Target="mailto:rcvr2014@mail.ru" TargetMode="External"/><Relationship Id="rId8" Type="http://schemas.openxmlformats.org/officeDocument/2006/relationships/hyperlink" Target="mailto:rcvr2014@mail.ru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30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5" descr=""/>
          <p:cNvPicPr/>
          <p:nvPr/>
        </p:nvPicPr>
        <p:blipFill>
          <a:blip r:embed="rId1"/>
          <a:stretch/>
        </p:blipFill>
        <p:spPr>
          <a:xfrm>
            <a:off x="127080" y="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2"/>
          <p:cNvSpPr/>
          <p:nvPr/>
        </p:nvSpPr>
        <p:spPr>
          <a:xfrm>
            <a:off x="250920" y="1471680"/>
            <a:ext cx="87818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Вопросы здоровьесбере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 системе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Республики Татарст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В. Соркина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й советник секто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и программ внеур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доровьесберегающ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File:Coat of Arms of Tatarstan.svg"/>
          <p:cNvPicPr/>
          <p:nvPr/>
        </p:nvPicPr>
        <p:blipFill>
          <a:blip r:embed="rId2"/>
          <a:stretch/>
        </p:blipFill>
        <p:spPr>
          <a:xfrm>
            <a:off x="3971880" y="182520"/>
            <a:ext cx="1085760" cy="10479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 rot="10800000">
            <a:off x="2195640" y="6408720"/>
            <a:ext cx="54324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" name="Picture 13" descr=""/>
          <p:cNvPicPr/>
          <p:nvPr/>
        </p:nvPicPr>
        <p:blipFill>
          <a:blip r:embed="rId3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01840" cy="6823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712800" y="705960"/>
            <a:ext cx="825192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оздана сеть базовых площадок п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   реализации технологий массовой первичной профилактики «школьных форм патологий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2» Лениногор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7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167 с углубленным изучением  английского языка»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15» Нижнекам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Средняя общеобразовательная школа №28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Лицей №159»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5» Лениногор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146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АОУ «Средняя общеобразовательная школа №56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76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ahoma"/>
              </a:rPr>
              <a:t>- МБОУ «Гимназия №6» Приволж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D87-6531-4F43-9B10-5FE48463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нкурс «Путь к здоровью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9D6F-BA0A-4044-AB6B-A2AF0041EA0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082-2738-487D-8D11-94BDF572D7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728640" y="696960"/>
            <a:ext cx="8251920" cy="60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9 им. А.С. Пушкина» Зеленодоль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унчелеевская средняя общеобразовательная школа» Аксубаев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Балтасинская гимназия» Балтас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121» (Центр образования №178) Совет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редняя общеобразовательная татарско-русская школа №113 с углубленным изучением отдельных предметов» Ново-Савиновского района г. Казан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АОУ для детей дошкольного и младшего школьного возраста «Прогимназия №64» г. Набережные Челн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Лицей №14» Зеленодольского муниципального район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Арская средняя общеобразовательная школа №1 им. В.Ф. Ежкова с углубленным изучением отдельных предметов» Арского   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Средняя общеобразовательная школа №22 с углубленным изучением английского языка» Нижнекам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МБОУ «Заинская средняя общеобразовательная школа №1» За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98D-2792-49C6-AEE8-C22D2AF3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нкурс «Путь к здоровью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31D-1613-4D07-BBF8-C2E96AA1CB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DF81-7727-4EA1-88D6-F486E399A5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53C8-E2EC-461F-905F-F39468D53C2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Tahoma"/>
              </a:rPr>
              <a:t>Раннее выявление отклонений в состоянии здоровья школьников с использованием аппаратно-программного комплекса "АРМИС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5" name="Picture 2" descr="C:\Work\Projects\Armis\Plakat\box.png"/>
          <p:cNvPicPr/>
          <p:nvPr/>
        </p:nvPicPr>
        <p:blipFill>
          <a:blip r:embed="rId1"/>
          <a:stretch/>
        </p:blipFill>
        <p:spPr>
          <a:xfrm>
            <a:off x="4084560" y="3697200"/>
            <a:ext cx="4178520" cy="2729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C:\Work\Projects\Armis\Plakat\notebook.png"/>
          <p:cNvPicPr/>
          <p:nvPr/>
        </p:nvPicPr>
        <p:blipFill>
          <a:blip r:embed="rId2"/>
          <a:stretch/>
        </p:blipFill>
        <p:spPr>
          <a:xfrm>
            <a:off x="6732720" y="1628640"/>
            <a:ext cx="2411280" cy="1962360"/>
          </a:xfrm>
          <a:prstGeom prst="rect">
            <a:avLst/>
          </a:prstGeom>
          <a:ln w="0">
            <a:noFill/>
          </a:ln>
        </p:spPr>
      </p:pic>
      <p:sp>
        <p:nvSpPr>
          <p:cNvPr id="627" name="Объект 2"/>
          <p:cNvSpPr/>
          <p:nvPr/>
        </p:nvSpPr>
        <p:spPr>
          <a:xfrm>
            <a:off x="304920" y="1523880"/>
            <a:ext cx="4495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"/>
          <p:cNvSpPr/>
          <p:nvPr/>
        </p:nvSpPr>
        <p:spPr>
          <a:xfrm>
            <a:off x="971640" y="2055960"/>
            <a:ext cx="532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выявлять  отклонения   в сердечно-сосудистой,  дыхательной, зрительной,  слуховой и центральной нервной сист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3"/>
          <a:stretch/>
        </p:blipFill>
        <p:spPr>
          <a:xfrm>
            <a:off x="0" y="196920"/>
            <a:ext cx="539640" cy="68230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4"/>
          <a:stretch/>
        </p:blipFill>
        <p:spPr>
          <a:xfrm>
            <a:off x="270000" y="6423120"/>
            <a:ext cx="89406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Результаты доврачебной скрининговой диагности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00200" y="1628640"/>
          <a:ext cx="8048520" cy="4284720"/>
        </p:xfrm>
        <a:graphic>
          <a:graphicData uri="http://schemas.openxmlformats.org/drawingml/2006/table">
            <a:tbl>
              <a:tblPr/>
              <a:tblGrid>
                <a:gridCol w="2300040"/>
                <a:gridCol w="2032200"/>
                <a:gridCol w="2030400"/>
                <a:gridCol w="1685880"/>
              </a:tblGrid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-2013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-2014 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обследованных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 8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% от общего числа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7% от общего числа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обучающихся, направленн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лечебно-профилактические учреждения для подтверждения результатов обсле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F8E-5C70-4311-8A49-8A18106AB8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-701640" y="0"/>
            <a:ext cx="140184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Взаимодействие общеобразовательных организаций с Центрами здоровья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 для дете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7 Плана действий по модернизации общего образования на 2011-2015 годы, утвержденного Распоряжением Правительства Российской Федерации от 7 сентября 2011 года №1507 - </a:t>
            </a:r>
            <a:r>
              <a:rPr b="0" lang="ru-RU" sz="2200" spc="-1" strike="noStrike">
                <a:solidFill>
                  <a:srgbClr val="ff0000"/>
                </a:solidFill>
                <a:latin typeface="Tahoma"/>
              </a:rPr>
              <a:t>необходимо систематизировать работу по развитию взаимодействия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 9 месяцев 2014 года на базе Центров здоровья для детей всего обследовано 18 994 ребенка, из них  14 845 (78,2%) - школьного возраста, из которых здоровыми признано 4 453 школьника (30% от общего количество обследованных школьников), имеют функциональные расстройства 10 392 школьника (70% от общего количества обследованных школьников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633-4CF9-4BF1-9268-4DC3738976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700200" y="6081840"/>
            <a:ext cx="8510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Направления деятельности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ahoma"/>
              </a:rPr>
              <a:t>Центров здоровья для дет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аннее выявление отклонений в состоянии здоровья дет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Формирование культуры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D51-1257-43D3-9D8C-1A2D4E55196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1"/>
          <a:stretch/>
        </p:blipFill>
        <p:spPr>
          <a:xfrm>
            <a:off x="179280" y="5989680"/>
            <a:ext cx="896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-7920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701640" y="254160"/>
            <a:ext cx="8371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сероссийский физкультурно-спор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плекс «Готов к труду и обороне» (Г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  Президента 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4 марта 2014 года №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 Всероссийском физкультурно-спортивном комплек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Готов к труду и обороне (ГТО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701640" y="204840"/>
            <a:ext cx="8371080" cy="551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Tahoma"/>
                <a:ea typeface="Tahoma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  Указ  Президента  Российской Федерации от 24 марта 2014 года №17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Распоряжение Правительства Российской Федерации №1165-р от 30 июня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Приказ Министерства спорта Российской Федерации от  09.07.2014 года  №574/1 «Об утверждении списка субъектов Российской Федерации, осуществляющих организационно-экспериментальную апробацию внедрения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российского физкультурно-спортивного комплекса «Готов к труду и обороне» (Г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Приказ Министерства спорта Российской Федерации от  08.07.2014 года  №575 «Об утверждении государственных требований  к уровню физической подготовленности населения при выполнении нормативов Всероссийского физкультурно-спортивного комплекса «Готов к труду и обороне» (Г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Распоряжение Кабинета Министров Республики Татарстан от 04.09.2014 года №1763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-  Приказ Министерства образования и науки Республики Татарстан от 10.07.2014 года №3907/14 «Об апробации Всероссийского физкультурно-спортивного комплекса «Готов к труду и обороне» (ГТО) в образовательных организациях Республики Татарстан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136440" y="-106200"/>
            <a:ext cx="1403280" cy="6856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701640" y="254160"/>
            <a:ext cx="8371080" cy="405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еспублики Татарстан от 10.07.2014 года №3907/14 «Об апробации Всероссийского физкультурно-спортивного комплекса «Готов к труду и обороне» (ГТО) в образовательных организациях Республики Татарста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общеобразователь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 организации С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701640" y="254160"/>
            <a:ext cx="8371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словия допуска к сдаче те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учающиеся и студенты основной группы по физической культуре на основании допуска медицинского работ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иски обучающихся и студентов, допущенных к сдаче нормативов, заверяются руководителем образовательной организац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42880" y="1413000"/>
          <a:ext cx="8229600" cy="4525920"/>
        </p:xfrm>
        <a:graphic>
          <a:graphicData uri="http://schemas.openxmlformats.org/drawingml/2006/table"/>
        </a:graphic>
      </p:graphicFrame>
      <p:sp>
        <p:nvSpPr>
          <p:cNvPr id="5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4893-C536-4248-8CBA-439BC9EE49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4"/>
          <p:cNvSpPr/>
          <p:nvPr/>
        </p:nvSpPr>
        <p:spPr>
          <a:xfrm>
            <a:off x="539640" y="1159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У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О НАЦИОНАЛЬ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ДЕЙСТВИЙ В ИНТЕРЕСАХ ДЕТЕЙ НА 2012 - 2017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4440240" y="1849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 июня 2012 года N 76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179280" y="2517840"/>
            <a:ext cx="883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Основные направления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йная политика детств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сть качественного обучения и воспитания, культурное развитие и информационная безопас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оохранение, дружественное к детям, и здоровый образ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ые возможности для детей, нуждающихся в особой заботе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системы защиты и обеспечения прав и интересов детей и дружественного к ребенку правосуд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- участники реализации Националь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152280" y="-63360"/>
            <a:ext cx="1403640" cy="6856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701640" y="254160"/>
            <a:ext cx="83710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озрастная структу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ступень: 1 - 2 классы (6 - 8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I ступень: 3 - 4 классы (9 - 10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II ступень: 5 - 6 классы (11 - 12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V ступень: 7 - 9 классы (13 - 15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 ступень: 10 - 11 классы, среднее профессиональное образование (16 - 17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7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701640" y="254160"/>
            <a:ext cx="83710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иды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елночный бег 3х1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ег на 30, 60, 10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Бег на 1; 1,5; 2; 3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ыжок в длину с места, прыжок в длину с раз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одтягивания на низкой и высокой перекладинах, рывок гири, сгибание и разгибание рук в упоре лежа, поднимание туловища из положения лежа на сп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Наклон вперед из положения стоя на полу или гимнастической ска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етание спортивного снаряда в цель и на 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лавание на 8, 10, 15, 25, 5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Бег на лыжах, кросс по пересеченной местности на 1, 2, 3, 5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трельба из положения сидя и положения ст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Туристский п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-10800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01640" y="254160"/>
            <a:ext cx="83710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Рекомендации к недельному двигательному режим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01640" y="911160"/>
          <a:ext cx="8193240" cy="5224680"/>
        </p:xfrm>
        <a:graphic>
          <a:graphicData uri="http://schemas.openxmlformats.org/drawingml/2006/table">
            <a:tbl>
              <a:tblPr/>
              <a:tblGrid>
                <a:gridCol w="600120"/>
                <a:gridCol w="7593120"/>
              </a:tblGrid>
              <a:tr h="65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п/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иды двигательной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тренняя гимнаст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язательные учебные занятия в образовательных организациях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3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иды двигательной деятельности в процессе учебного дня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рганизованные занятия в спортивных секциях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 кружках по легкой атлетике, плаванию, лыжам, полиатлону, гимнастике, спортивным играм, фитнесу, единоборствам, туризму, в группах общей  физической  подготовки, участие в спортивных соревнования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5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амостоятельные занятия физической культурой, в том числе подвижными и спортивными играми, другими видами двигательной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 каникулярное время ежедневный двигательный режим должен составлять не менее 3-4 час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701640" y="254160"/>
            <a:ext cx="8371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бязательно для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(письмо МОиН РТ от 26.08.2014 года №16756/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Оформлены информационные сте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Созданы тематические  разделы на сайтах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паганда внедрения комплекса ГТО осуществляется на массовых физкультурно-спортивных мероприятиях, родительских собраниях, совещаниях педагогически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стирование начато с 20 сентября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701640" y="254160"/>
            <a:ext cx="8371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екомендации для проведения т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Сдача нормативов разделена на три сессии: осенняя, зимняя, вес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Созданы базовые площадки для сдачи нормативов  по территориальному принципу с соответствующей материальной базой и спортивно-оздоровительной инфраструк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Сдача нормативов рекомендована на муниципальных спортивно-оздоровитель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701640" y="254160"/>
            <a:ext cx="83710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Calibri"/>
                <a:ea typeface="Microsoft YaHei"/>
              </a:rPr>
              <a:t>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Этапы внедрения и апроб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Всероссийского физкультурно-спортив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«Готов к труду и обороне» (ГТ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  <a:ea typeface="Microsoft YaHei"/>
              </a:rPr>
              <a:t>в образовательных организ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509760" y="1700280"/>
          <a:ext cx="8310240" cy="4784760"/>
        </p:xfrm>
        <a:graphic>
          <a:graphicData uri="http://schemas.openxmlformats.org/drawingml/2006/table">
            <a:tbl>
              <a:tblPr/>
              <a:tblGrid>
                <a:gridCol w="2982600"/>
                <a:gridCol w="5327640"/>
              </a:tblGrid>
              <a:tr h="109620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Сентябр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Система мероприятий, направленных на продвижение и пропаганду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Комплекса ГТО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Октябр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Осенняя сессия сдачи нормативов Комплекс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40220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Ноябрь-декабрь, март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Проведение массовых физкультурно-спортивных мероприятий с обучающимися, направленных на продвижение и пропаганду Комплекса ГТО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Январь-февраль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Зимняя сессия сдачи нормативов Комплекс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762120"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Апрель-ма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Весенняя сессия сдачи нормативов Комплекс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701640" y="254160"/>
            <a:ext cx="837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  </a:t>
            </a: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Спортивно-оздоровительные проекты, направленные на продвижение Всероссийского физкультурно-спортивного комплекса «Готов к труду и обор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1. Региональный этап Всероссийских спортивных соревнований школьников «Президентские состяз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2.     Региональный этап Всероссийских спортивных  игр школьников «Президентские спортивные иг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3. Региональный этап Чемпионата Школьной баскетбольной лиги «КЭС-БАСК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4.    Республиканские соревнования среди  молодежи допризывного возраста «К защите Родины готов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Спартакиада среди профессиональных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0" y="-8424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701640" y="254160"/>
            <a:ext cx="837108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Arial"/>
                <a:ea typeface="Microsoft YaHei"/>
              </a:rPr>
              <a:t>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Методическое сопровождение поэтапного 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и апробации ВФСК ГТ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ГАОУ ДПО «Институт развития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Microsoft YaHei"/>
              </a:rPr>
              <a:t>Республики Татарста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ектный офис по внедрению ВФСК ГТО, г. Казань, ул. Б. Красная, 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Руководитель проектного офиса -   Сафин Алексей Алексеевич, тел. 238-68-1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эл.почта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metodiro@mail.r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- разработка методических рекомендаций для органов   управления в сфере образования,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и проведение зональных обучающих семинаров для специалистов муниципальных органов управления образованием, руководителей РМО учителей физической культуры, заместителей руководителя  по ВР, классных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и проведение курсов повышения квалификации для учителей физ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701640" y="254160"/>
            <a:ext cx="83710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«Воспитание, дополнительное образование детей/Здоровьесберегающее и физкультурно-спортивное направление/Апробация Всероссийского физкультурно-спортивного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«Готов к труду и обороне» (Г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787320" y="204840"/>
            <a:ext cx="78375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Всероссийский физкультурно-спор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комплекс «Готов к труду и обороне» (Г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773280" y="1197000"/>
            <a:ext cx="837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ahoma"/>
                <a:ea typeface="Tahoma"/>
              </a:rPr>
              <a:t>Еженедельно – четверг 12.00 час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предоставление планов мероприятий по продвижению Комплекса (в МОиН РТ) на следующую нед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Ежемеся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5 числа направлять в РЦВР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rcvr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2014@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ail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исьмо МОиН РТ №19556/14 от 13.10.2014 г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ю 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количестве школ и обучающихся основной группы по физической культуре, приступивших к сдаче нормат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количестве обучающихся, успешно сдавших нормат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сдаче осенней сессии (по вида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ahoma"/>
              </a:rPr>
              <a:t>проведенных мероприятиях по продвижению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154080" y="1047600"/>
            <a:ext cx="903600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41. Охрана здоровья обучающихся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42. Психолого-педагогическая, медицинская и социальная помощь обучающимся, испытывающим трудности в освоении основных общеобразовательных программ, развитии и социальной адаптации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37. Организация питания обучающихся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ahoma"/>
              </a:rPr>
              <a:t>Статья 84. Особенности реализации образовательных программ в области физической культуры и спорта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E71-9455-481F-AEA8-0298A3C7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ФЗ от 29.12.2012 года №273-ФЗ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«Об образовании в Российской Федерации»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3CE-CB5F-415D-8849-597A71C5FF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E7BD-66FF-482B-B7DE-E5AF8BB67A0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ниторинг участия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общеобразовательных учрежден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Чемпионате Школьной баскетбольной лиги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EED0-D67D-4331-AF2C-B8B4B584A3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0" y="6080040"/>
            <a:ext cx="9144000" cy="75420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graphicFrame>
        <p:nvGraphicFramePr>
          <p:cNvPr id="733" name=""/>
          <p:cNvGraphicFramePr/>
          <p:nvPr/>
        </p:nvGraphicFramePr>
        <p:xfrm>
          <a:off x="179280" y="1268280"/>
          <a:ext cx="8856720" cy="4989600"/>
        </p:xfrm>
        <a:graphic>
          <a:graphicData uri="http://schemas.openxmlformats.org/drawingml/2006/table">
            <a:tbl>
              <a:tblPr/>
              <a:tblGrid>
                <a:gridCol w="3660840"/>
                <a:gridCol w="1243080"/>
                <a:gridCol w="1317600"/>
                <a:gridCol w="1317600"/>
                <a:gridCol w="1317600"/>
              </a:tblGrid>
              <a:tr h="11041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 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 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школ-участниц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манд- участ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авленных комплектов спортивной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авленных мяч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4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8083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3D7-913B-426A-9142-407D80F1CBC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2924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2924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"/>
          <p:cNvPicPr/>
          <p:nvPr/>
        </p:nvPicPr>
        <p:blipFill>
          <a:blip r:embed="rId3"/>
          <a:stretch/>
        </p:blipFill>
        <p:spPr>
          <a:xfrm>
            <a:off x="4876920" y="2924280"/>
            <a:ext cx="4249440" cy="39337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"/>
          <p:cNvPicPr/>
          <p:nvPr/>
        </p:nvPicPr>
        <p:blipFill>
          <a:blip r:embed="rId4"/>
          <a:stretch/>
        </p:blipFill>
        <p:spPr>
          <a:xfrm>
            <a:off x="0" y="292428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79280" y="239760"/>
            <a:ext cx="8893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  </a:t>
            </a: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Доля общеобразовательных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участвующих в проекте «Школьная баскетбольная ли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«КЭС-БАСК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773280" y="1197000"/>
            <a:ext cx="8370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Диаграмма 7" descr=""/>
          <p:cNvPicPr/>
          <p:nvPr/>
        </p:nvPicPr>
        <p:blipFill>
          <a:blip r:embed="rId4"/>
          <a:stretch/>
        </p:blipFill>
        <p:spPr>
          <a:xfrm>
            <a:off x="-19080" y="1335240"/>
            <a:ext cx="9163080" cy="506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е спортивные соревнования школьников «Президентские состязания» и «Президентские спортивные игр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77EE-AEC8-4728-AC10-09B85086294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-1440" y="6130800"/>
            <a:ext cx="9144000" cy="75420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graphicFrame>
        <p:nvGraphicFramePr>
          <p:cNvPr id="750" name=""/>
          <p:cNvGraphicFramePr/>
          <p:nvPr/>
        </p:nvGraphicFramePr>
        <p:xfrm>
          <a:off x="0" y="1413000"/>
          <a:ext cx="9142560" cy="3413160"/>
        </p:xfrm>
        <a:graphic>
          <a:graphicData uri="http://schemas.openxmlformats.org/drawingml/2006/table">
            <a:tbl>
              <a:tblPr/>
              <a:tblGrid>
                <a:gridCol w="1649520"/>
                <a:gridCol w="1376280"/>
                <a:gridCol w="1222200"/>
                <a:gridCol w="1116000"/>
                <a:gridCol w="1152720"/>
                <a:gridCol w="1352520"/>
                <a:gridCol w="1273320"/>
              </a:tblGrid>
              <a:tr h="731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 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 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зидентские состяз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5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 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38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9,8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4,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зидентские спортивные игр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6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 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 5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7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 8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3,3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51" name="Picture 2" descr="C:\Users\Соркина\Desktop\Президентские  игры2014\Финал ПИ\ФОТО\P1000591JPG.jpg"/>
          <p:cNvPicPr/>
          <p:nvPr/>
        </p:nvPicPr>
        <p:blipFill>
          <a:blip r:embed="rId2"/>
          <a:stretch/>
        </p:blipFill>
        <p:spPr>
          <a:xfrm>
            <a:off x="-108000" y="4724280"/>
            <a:ext cx="3095640" cy="14065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" descr="C:\Users\Соркина\Desktop\Президентские  игры2014\Финал ПИ\ФОТО\P1000565JPG.jpg"/>
          <p:cNvPicPr/>
          <p:nvPr/>
        </p:nvPicPr>
        <p:blipFill>
          <a:blip r:embed="rId3"/>
          <a:stretch/>
        </p:blipFill>
        <p:spPr>
          <a:xfrm>
            <a:off x="2987640" y="4653000"/>
            <a:ext cx="2232000" cy="1477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C:\Users\Соркина\Desktop\Президентские  игры2014\Финал ПС\ИТОГИ на сайт\IMG_3020.JPG"/>
          <p:cNvPicPr/>
          <p:nvPr/>
        </p:nvPicPr>
        <p:blipFill>
          <a:blip r:embed="rId4"/>
          <a:stretch/>
        </p:blipFill>
        <p:spPr>
          <a:xfrm>
            <a:off x="5148360" y="4724280"/>
            <a:ext cx="2303280" cy="14065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C:\Users\Соркина\Desktop\Президентские  игры2014\Финал ПС\ИТОГИ на сайт\IMG_2535.JPG"/>
          <p:cNvPicPr/>
          <p:nvPr/>
        </p:nvPicPr>
        <p:blipFill>
          <a:blip r:embed="rId5"/>
          <a:stretch/>
        </p:blipFill>
        <p:spPr>
          <a:xfrm>
            <a:off x="7380360" y="4797360"/>
            <a:ext cx="17636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Финал «Президентских состязаний» и «Президентских спортивных игр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95280" y="1449000"/>
            <a:ext cx="3168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Лицей№2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(г. Бугульма) </a:t>
            </a: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2 место «Творческий конкурс» («Президентские состязания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Большенырсинкая СОШ» (Тюлячинский муниципальный район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3 место – «Теоретический конкурс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(«Президентские состязания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МБОУ «СОШ №177 с углубленным изучением отдельных предметов» (г. Казань)</a:t>
            </a: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2 место «Пулевая стрельба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ahoma"/>
              </a:rPr>
              <a:t>(«Президентские спортивные игры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FFF-4A37-4A71-90AC-86CC83D9624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" descr="C:\Users\Соркина\Desktop\Президентские  игры2014\РФ ПИ\ИТОГИ\IMG_20140922_164458.jpg"/>
          <p:cNvPicPr/>
          <p:nvPr/>
        </p:nvPicPr>
        <p:blipFill>
          <a:blip r:embed="rId2"/>
          <a:stretch/>
        </p:blipFill>
        <p:spPr>
          <a:xfrm>
            <a:off x="3757680" y="4292640"/>
            <a:ext cx="4751280" cy="18525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C:\Users\BA79~1\AppData\Local\Temp\Rar$DI00.672\DSC04186.JPG"/>
          <p:cNvPicPr/>
          <p:nvPr/>
        </p:nvPicPr>
        <p:blipFill>
          <a:blip r:embed="rId3"/>
          <a:stretch/>
        </p:blipFill>
        <p:spPr>
          <a:xfrm>
            <a:off x="3708360" y="333360"/>
            <a:ext cx="4896000" cy="2232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C:\Users\BA79~1\AppData\Local\Temp\Rar$DI02.515\yTjdsph59iI.jpg"/>
          <p:cNvPicPr/>
          <p:nvPr/>
        </p:nvPicPr>
        <p:blipFill>
          <a:blip r:embed="rId4"/>
          <a:stretch/>
        </p:blipFill>
        <p:spPr>
          <a:xfrm>
            <a:off x="3635280" y="2552760"/>
            <a:ext cx="4969080" cy="1871640"/>
          </a:xfrm>
          <a:prstGeom prst="rect">
            <a:avLst/>
          </a:prstGeom>
          <a:ln w="0">
            <a:noFill/>
          </a:ln>
        </p:spPr>
      </p:pic>
      <p:sp>
        <p:nvSpPr>
          <p:cNvPr id="762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Итоги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школьной Спартакиады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среди общеобразовательных организаций  сельских район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8152-DF25-461F-A051-9BABC8F09D9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Диаграмма 7" descr=""/>
          <p:cNvPicPr/>
          <p:nvPr/>
        </p:nvPicPr>
        <p:blipFill>
          <a:blip r:embed="rId1"/>
          <a:stretch/>
        </p:blipFill>
        <p:spPr>
          <a:xfrm>
            <a:off x="200160" y="1549440"/>
            <a:ext cx="8815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Итоги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 школьной Спартакиады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(среди общеобразовательных организаций город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1FD8-B254-47F5-9142-643266D50CF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Диаграмма 7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76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" descr=""/>
          <p:cNvPicPr/>
          <p:nvPr/>
        </p:nvPicPr>
        <p:blipFill>
          <a:blip r:embed="rId2"/>
          <a:stretch/>
        </p:blipFill>
        <p:spPr>
          <a:xfrm>
            <a:off x="120600" y="-20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3"/>
          <a:stretch/>
        </p:blipFill>
        <p:spPr>
          <a:xfrm>
            <a:off x="179280" y="23976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773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798480" y="0"/>
            <a:ext cx="78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Школьные спортивные кл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811080" y="620640"/>
            <a:ext cx="81075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направления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развитие видов спорта в общеобразовательных организациях (бадминтон, национальная борьба, волейбол, баскетбол, мини-футбо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 спортивно-массовой работы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начало 2014 -2015 учебного года действует  147 школьных спортивных клуб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- структурные подразделения обще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8 – общественные 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ы действуют  на основании положений, утвержденных руководителями общеобразователь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и деятельность школьных спортивных клубов  - один из показателей при распределении субсидий из федерального бюджета бюджетам субъектов Российской Федерации на развитие спортивно-оздоровительной инфрастру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Не открыты школьные спортивные 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в Бавлинском и Нурлатском  муниципальных районах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" descr=""/>
          <p:cNvPicPr/>
          <p:nvPr/>
        </p:nvPicPr>
        <p:blipFill>
          <a:blip r:embed="rId5"/>
          <a:stretch/>
        </p:blipFill>
        <p:spPr>
          <a:xfrm>
            <a:off x="272880" y="131760"/>
            <a:ext cx="26208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Динамика результативности участия  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во Всероссийской акции 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"Спорт - альтернатива пагубным привычкам"</a:t>
            </a:r>
            <a:br>
              <a:rPr sz="2000"/>
            </a:br>
            <a:r>
              <a:rPr b="1" lang="en-US" sz="2000" spc="-1" strike="noStrike">
                <a:solidFill>
                  <a:srgbClr val="376092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11280" y="1484280"/>
          <a:ext cx="8208720" cy="946080"/>
        </p:xfrm>
        <a:graphic>
          <a:graphicData uri="http://schemas.openxmlformats.org/drawingml/2006/table">
            <a:tbl>
              <a:tblPr/>
              <a:tblGrid>
                <a:gridCol w="1817640"/>
                <a:gridCol w="1278000"/>
                <a:gridCol w="1279440"/>
                <a:gridCol w="1278000"/>
                <a:gridCol w="1278000"/>
                <a:gridCol w="127764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побе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8191-B7B1-4FAF-8FE3-668A998646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3" descr=""/>
          <p:cNvPicPr/>
          <p:nvPr/>
        </p:nvPicPr>
        <p:blipFill>
          <a:blip r:embed="rId1"/>
          <a:srcRect l="0" t="26802" r="0" b="5360"/>
          <a:stretch/>
        </p:blipFill>
        <p:spPr>
          <a:xfrm>
            <a:off x="11160" y="6021360"/>
            <a:ext cx="9144000" cy="836640"/>
          </a:xfrm>
          <a:prstGeom prst="rect">
            <a:avLst/>
          </a:prstGeom>
          <a:ln w="9360">
            <a:solidFill>
              <a:srgbClr val="002d6e"/>
            </a:solidFill>
            <a:miter/>
          </a:ln>
        </p:spPr>
      </p:pic>
      <p:sp>
        <p:nvSpPr>
          <p:cNvPr id="783" name="Прямоугольник 6"/>
          <p:cNvSpPr/>
          <p:nvPr/>
        </p:nvSpPr>
        <p:spPr>
          <a:xfrm>
            <a:off x="214200" y="2481120"/>
            <a:ext cx="892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образовательные  организации и учащиеся Республики Татарстан, победившие в 2013 году на Всероссийском эта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АОУ «Средняя общеобразовательная школа №56»  г. Набережные Чел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МБОУ ДОД «Детский (подростковый) центр «Молодость» Приволжского района г. Каз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Саженкова Мария, учащаяся МБОУ «Средняя общеобразовательная школа №156»  Советского района  г. Каз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2013-2014 учебный го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5FE-C575-4E85-87D3-0ABF41C5056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Диаграмма 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Рисунок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73880" cy="688824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201600" y="225360"/>
            <a:ext cx="946080" cy="8589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Заголовок 1"/>
          <p:cNvSpPr/>
          <p:nvPr/>
        </p:nvSpPr>
        <p:spPr>
          <a:xfrm>
            <a:off x="1332000" y="293760"/>
            <a:ext cx="7848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Первичная заболеваемость среди школьников по классам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(на 1000 обучаю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бъект 2"/>
          <p:cNvSpPr/>
          <p:nvPr/>
        </p:nvSpPr>
        <p:spPr>
          <a:xfrm>
            <a:off x="900000" y="1604880"/>
            <a:ext cx="7993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314360" y="1704960"/>
          <a:ext cx="7123320" cy="4346640"/>
        </p:xfrm>
        <a:graphic>
          <a:graphicData uri="http://schemas.openxmlformats.org/drawingml/2006/table">
            <a:tbl>
              <a:tblPr/>
              <a:tblGrid>
                <a:gridCol w="4376880"/>
                <a:gridCol w="1444680"/>
                <a:gridCol w="1301760"/>
              </a:tblGrid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ы заболе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глаза и его придаточного ап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костно-мышеч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органов пищева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зни органов дых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ая распростран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классам заболе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( 1 группа 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58A9-616B-4B84-88FE-747373CAF6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Диаграмма 6" descr=""/>
          <p:cNvPicPr/>
          <p:nvPr/>
        </p:nvPicPr>
        <p:blipFill>
          <a:blip r:embed="rId1"/>
          <a:stretch/>
        </p:blipFill>
        <p:spPr>
          <a:xfrm>
            <a:off x="272880" y="1506600"/>
            <a:ext cx="8598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2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150-A59C-4589-8E48-DDF90864623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Диаграмма 6" descr=""/>
          <p:cNvPicPr/>
          <p:nvPr/>
        </p:nvPicPr>
        <p:blipFill>
          <a:blip r:embed="rId1"/>
          <a:stretch/>
        </p:blipFill>
        <p:spPr>
          <a:xfrm>
            <a:off x="1568520" y="1506600"/>
            <a:ext cx="6222960" cy="3486240"/>
          </a:xfrm>
          <a:prstGeom prst="rect">
            <a:avLst/>
          </a:prstGeom>
          <a:ln w="0">
            <a:noFill/>
          </a:ln>
        </p:spPr>
      </p:pic>
      <p:pic>
        <p:nvPicPr>
          <p:cNvPr id="793" name="Диаграмма 4" descr=""/>
          <p:cNvPicPr/>
          <p:nvPr/>
        </p:nvPicPr>
        <p:blipFill>
          <a:blip r:embed="rId2"/>
          <a:stretch/>
        </p:blipFill>
        <p:spPr>
          <a:xfrm>
            <a:off x="1136520" y="1649520"/>
            <a:ext cx="7446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3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C20-94CB-43A6-AAFF-4C0B77D457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Диаграмма 6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237520" cy="3486240"/>
          </a:xfrm>
          <a:prstGeom prst="rect">
            <a:avLst/>
          </a:prstGeom>
          <a:ln w="0">
            <a:noFill/>
          </a:ln>
        </p:spPr>
      </p:pic>
      <p:pic>
        <p:nvPicPr>
          <p:cNvPr id="797" name="Диаграмма 5" descr=""/>
          <p:cNvPicPr/>
          <p:nvPr/>
        </p:nvPicPr>
        <p:blipFill>
          <a:blip r:embed="rId2"/>
          <a:stretch/>
        </p:blipFill>
        <p:spPr>
          <a:xfrm>
            <a:off x="2286000" y="2060640"/>
            <a:ext cx="610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йтинг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результативности участ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в спортивно-оздоровительных проектах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ahoma"/>
              </a:rPr>
              <a:t>(  4 группа )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EE8-CCE6-450C-A3BA-E9E2A2AB46A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Диаграмма 6" descr=""/>
          <p:cNvPicPr/>
          <p:nvPr/>
        </p:nvPicPr>
        <p:blipFill>
          <a:blip r:embed="rId1"/>
          <a:stretch/>
        </p:blipFill>
        <p:spPr>
          <a:xfrm>
            <a:off x="1568520" y="1506600"/>
            <a:ext cx="6222960" cy="3486240"/>
          </a:xfrm>
          <a:prstGeom prst="rect">
            <a:avLst/>
          </a:prstGeom>
          <a:ln w="0">
            <a:noFill/>
          </a:ln>
        </p:spPr>
      </p:pic>
      <p:pic>
        <p:nvPicPr>
          <p:cNvPr id="801" name="Диаграмма 5" descr=""/>
          <p:cNvPicPr/>
          <p:nvPr/>
        </p:nvPicPr>
        <p:blipFill>
          <a:blip r:embed="rId2"/>
          <a:stretch/>
        </p:blipFill>
        <p:spPr>
          <a:xfrm>
            <a:off x="849240" y="1506600"/>
            <a:ext cx="7950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3" descr=""/>
          <p:cNvPicPr/>
          <p:nvPr/>
        </p:nvPicPr>
        <p:blipFill>
          <a:blip r:embed="rId1"/>
          <a:stretch/>
        </p:blipFill>
        <p:spPr>
          <a:xfrm>
            <a:off x="30240" y="-85680"/>
            <a:ext cx="9174240" cy="688824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Заголовок 1"/>
          <p:cNvSpPr/>
          <p:nvPr/>
        </p:nvSpPr>
        <p:spPr>
          <a:xfrm>
            <a:off x="1332000" y="609480"/>
            <a:ext cx="7848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4720" y="39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Федеральный 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от 29 декабря 2012 года № 273-ФЗ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«Об образовании в Российской Федерации»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01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.3 ст. 4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рганизацию оказания первичной медико-санитарной помощи обучающимся осуществляют органы исполнительной власти в сфере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Образовательная организация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бязана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предоставить помещение с соответствующими условиями для работы медицинских работ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Рисунок 3" descr=""/>
          <p:cNvPicPr/>
          <p:nvPr/>
        </p:nvPicPr>
        <p:blipFill>
          <a:blip r:embed="rId1"/>
          <a:stretch/>
        </p:blipFill>
        <p:spPr>
          <a:xfrm>
            <a:off x="-19080" y="-9684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809" name="Рисунок 4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11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Заголовок 1"/>
          <p:cNvSpPr/>
          <p:nvPr/>
        </p:nvSpPr>
        <p:spPr>
          <a:xfrm>
            <a:off x="1619280" y="204840"/>
            <a:ext cx="705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Доля </a:t>
            </a:r>
            <a:br>
              <a:rPr sz="2100"/>
            </a:b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общеобразовательных организаций, имеющих   медицинские кабинеты, к общему числу общеобразовательных организаций (%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Объект 9" descr=""/>
          <p:cNvPicPr/>
          <p:nvPr/>
        </p:nvPicPr>
        <p:blipFill>
          <a:blip r:embed="rId4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Рисунок 3" descr=""/>
          <p:cNvPicPr/>
          <p:nvPr/>
        </p:nvPicPr>
        <p:blipFill>
          <a:blip r:embed="rId1"/>
          <a:stretch/>
        </p:blipFill>
        <p:spPr>
          <a:xfrm>
            <a:off x="-19080" y="-9684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4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18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Заголовок 1"/>
          <p:cNvSpPr/>
          <p:nvPr/>
        </p:nvSpPr>
        <p:spPr>
          <a:xfrm>
            <a:off x="1619280" y="204840"/>
            <a:ext cx="7056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Доля </a:t>
            </a:r>
            <a:br>
              <a:rPr sz="2100"/>
            </a:br>
            <a:r>
              <a:rPr b="1" lang="ru-RU" sz="2100" spc="-1" strike="noStrike">
                <a:solidFill>
                  <a:srgbClr val="0070c0"/>
                </a:solidFill>
                <a:latin typeface="Tahoma"/>
              </a:rPr>
              <a:t>общеобразовательных организаций, имеющих лицензированные медицинские кабинеты, к общему числу общеобразовательных организаций, имеющих медицинские кабинеты (%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1" name="Объект 10" descr=""/>
          <p:cNvPicPr/>
          <p:nvPr/>
        </p:nvPicPr>
        <p:blipFill>
          <a:blip r:embed="rId4"/>
          <a:stretch/>
        </p:blipFill>
        <p:spPr>
          <a:xfrm>
            <a:off x="776160" y="1531800"/>
            <a:ext cx="7961400" cy="466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Microsoft YaHei"/>
              </a:rPr>
              <a:t>Задачи в области здоровьесбережения и физического развития школь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негативных факторов интенсивной учебной нагрузки за счет оптим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ическая поддержка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ниторинг здоровья 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зи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я школьник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мониторинг эффективности здоровьесберегающе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ормирование у школьников устойчивого интереса и потребности в регулярных занятиях физической культурой и спорт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навыков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я физкультурно-оздоровительных и спортивно-массовых мероприят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809-80ED-4228-AC44-294D3DDC1E2A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3" descr=""/>
          <p:cNvPicPr/>
          <p:nvPr/>
        </p:nvPicPr>
        <p:blipFill>
          <a:blip r:embed="rId1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1" descr=""/>
          <p:cNvPicPr/>
          <p:nvPr/>
        </p:nvPicPr>
        <p:blipFill>
          <a:blip r:embed="rId1"/>
          <a:stretch/>
        </p:blipFill>
        <p:spPr>
          <a:xfrm>
            <a:off x="-19080" y="-106200"/>
            <a:ext cx="9175680" cy="6899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"/>
          <p:cNvPicPr/>
          <p:nvPr/>
        </p:nvPicPr>
        <p:blipFill>
          <a:blip r:embed="rId2"/>
          <a:stretch/>
        </p:blipFill>
        <p:spPr>
          <a:xfrm>
            <a:off x="0" y="-128520"/>
            <a:ext cx="1403280" cy="6854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"/>
          <p:cNvPicPr/>
          <p:nvPr/>
        </p:nvPicPr>
        <p:blipFill>
          <a:blip r:embed="rId3"/>
          <a:stretch/>
        </p:blipFill>
        <p:spPr>
          <a:xfrm>
            <a:off x="66600" y="-71280"/>
            <a:ext cx="658800" cy="858600"/>
          </a:xfrm>
          <a:prstGeom prst="rect">
            <a:avLst/>
          </a:prstGeom>
          <a:ln w="0">
            <a:noFill/>
          </a:ln>
        </p:spPr>
      </p:pic>
      <p:sp>
        <p:nvSpPr>
          <p:cNvPr id="829" name="AutoShape 4"/>
          <p:cNvSpPr/>
          <p:nvPr/>
        </p:nvSpPr>
        <p:spPr>
          <a:xfrm>
            <a:off x="701640" y="6402240"/>
            <a:ext cx="8371080" cy="385920"/>
          </a:xfrm>
          <a:prstGeom prst="pie">
            <a:avLst/>
          </a:prstGeom>
          <a:gradFill rotWithShape="0">
            <a:gsLst>
              <a:gs pos="0">
                <a:srgbClr val="4780c5"/>
              </a:gs>
              <a:gs pos="100000">
                <a:srgbClr val="254872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1619280" y="204840"/>
            <a:ext cx="7056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826920" y="1600200"/>
            <a:ext cx="78598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Благодарю за внимание!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Рисунок 3" descr=""/>
          <p:cNvPicPr/>
          <p:nvPr/>
        </p:nvPicPr>
        <p:blipFill>
          <a:blip r:embed="rId1"/>
          <a:stretch/>
        </p:blipFill>
        <p:spPr>
          <a:xfrm>
            <a:off x="-49320" y="6480"/>
            <a:ext cx="9174240" cy="68878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39680"/>
            <a:ext cx="658800" cy="8589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с двумя вырезанными противолежащими углами 1"/>
          <p:cNvSpPr/>
          <p:nvPr/>
        </p:nvSpPr>
        <p:spPr>
          <a:xfrm>
            <a:off x="701640" y="6405480"/>
            <a:ext cx="8371080" cy="3841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Заголовок 1" descr=""/>
          <p:cNvPicPr/>
          <p:nvPr/>
        </p:nvPicPr>
        <p:blipFill>
          <a:blip r:embed="rId4"/>
          <a:stretch/>
        </p:blipFill>
        <p:spPr>
          <a:xfrm>
            <a:off x="1279440" y="360360"/>
            <a:ext cx="7851960" cy="2108160"/>
          </a:xfrm>
          <a:prstGeom prst="rect">
            <a:avLst/>
          </a:prstGeom>
          <a:ln w="0">
            <a:noFill/>
          </a:ln>
        </p:spPr>
      </p:pic>
      <p:sp>
        <p:nvSpPr>
          <p:cNvPr id="572" name="Объект 2"/>
          <p:cNvSpPr/>
          <p:nvPr/>
        </p:nvSpPr>
        <p:spPr>
          <a:xfrm>
            <a:off x="900000" y="1604880"/>
            <a:ext cx="7993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"/>
          <p:cNvSpPr/>
          <p:nvPr/>
        </p:nvSpPr>
        <p:spPr>
          <a:xfrm>
            <a:off x="1866960" y="19836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Динамика распространенности «школьных болезней» с момента поступления в школу до вы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(на 1000 осмотре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Диаграмма 6" descr=""/>
          <p:cNvPicPr/>
          <p:nvPr/>
        </p:nvPicPr>
        <p:blipFill>
          <a:blip r:embed="rId5"/>
          <a:stretch/>
        </p:blipFill>
        <p:spPr>
          <a:xfrm>
            <a:off x="849240" y="1841400"/>
            <a:ext cx="7780320" cy="44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0" y="10944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649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ЗДОРОВЬЕ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Объект 7"/>
          <p:cNvGrpSpPr/>
          <p:nvPr/>
        </p:nvGrpSpPr>
        <p:grpSpPr>
          <a:xfrm>
            <a:off x="196920" y="1268280"/>
            <a:ext cx="8808840" cy="4857840"/>
            <a:chOff x="196920" y="1268280"/>
            <a:chExt cx="8808840" cy="4857840"/>
          </a:xfrm>
        </p:grpSpPr>
        <p:sp>
          <p:nvSpPr>
            <p:cNvPr id="578" name="Полилиния 3"/>
            <p:cNvSpPr/>
            <p:nvPr/>
          </p:nvSpPr>
          <p:spPr>
            <a:xfrm>
              <a:off x="196920" y="4608000"/>
              <a:ext cx="8789400" cy="15181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99960" rIns="1299960" tIns="235080" bIns="2350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Формирование у школьников потребности в здоровом образе жи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олилиния 4"/>
            <p:cNvSpPr/>
            <p:nvPr/>
          </p:nvSpPr>
          <p:spPr>
            <a:xfrm flipH="1" rot="12387600">
              <a:off x="2239920" y="4052880"/>
              <a:ext cx="1021680" cy="676080"/>
            </a:xfrm>
            <a:custGeom>
              <a:avLst/>
              <a:gdLst>
                <a:gd name="textAreaLeft" fmla="*/ 202680 w 1021680"/>
                <a:gd name="textAreaRight" fmla="*/ 1022040 w 102168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7146" y="4320"/>
                  </a:lnTo>
                  <a:lnTo>
                    <a:pt x="7146" y="0"/>
                  </a:lnTo>
                  <a:lnTo>
                    <a:pt x="0" y="10800"/>
                  </a:lnTo>
                  <a:lnTo>
                    <a:pt x="7146" y="21600"/>
                  </a:lnTo>
                  <a:lnTo>
                    <a:pt x="7146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олилиния 5"/>
            <p:cNvSpPr/>
            <p:nvPr/>
          </p:nvSpPr>
          <p:spPr>
            <a:xfrm>
              <a:off x="199080" y="2708640"/>
              <a:ext cx="206640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94680" bIns="946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Двигательная активн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6"/>
            <p:cNvSpPr/>
            <p:nvPr/>
          </p:nvSpPr>
          <p:spPr>
            <a:xfrm rot="4597200">
              <a:off x="3160440" y="3524400"/>
              <a:ext cx="1477800" cy="676080"/>
            </a:xfrm>
            <a:custGeom>
              <a:avLst/>
              <a:gdLst>
                <a:gd name="textAreaLeft" fmla="*/ 202680 w 1477800"/>
                <a:gd name="textAreaRight" fmla="*/ 1478160 w 147780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4941" y="4320"/>
                  </a:lnTo>
                  <a:lnTo>
                    <a:pt x="4941" y="0"/>
                  </a:lnTo>
                  <a:lnTo>
                    <a:pt x="0" y="10800"/>
                  </a:lnTo>
                  <a:lnTo>
                    <a:pt x="4941" y="21600"/>
                  </a:lnTo>
                  <a:lnTo>
                    <a:pt x="4941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Полилиния 7"/>
            <p:cNvSpPr/>
            <p:nvPr/>
          </p:nvSpPr>
          <p:spPr>
            <a:xfrm>
              <a:off x="1975320" y="1268280"/>
              <a:ext cx="232812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98640" bIns="9864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ит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олилиния 8"/>
            <p:cNvSpPr/>
            <p:nvPr/>
          </p:nvSpPr>
          <p:spPr>
            <a:xfrm rot="7004400">
              <a:off x="4472640" y="3540600"/>
              <a:ext cx="1633320" cy="676080"/>
            </a:xfrm>
            <a:custGeom>
              <a:avLst/>
              <a:gdLst>
                <a:gd name="textAreaLeft" fmla="*/ 202680 w 1633320"/>
                <a:gd name="textAreaRight" fmla="*/ 1633680 w 163332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4471" y="4320"/>
                  </a:lnTo>
                  <a:lnTo>
                    <a:pt x="4471" y="0"/>
                  </a:lnTo>
                  <a:lnTo>
                    <a:pt x="0" y="10800"/>
                  </a:lnTo>
                  <a:lnTo>
                    <a:pt x="4471" y="21600"/>
                  </a:lnTo>
                  <a:lnTo>
                    <a:pt x="4471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олилиния 9"/>
            <p:cNvSpPr/>
            <p:nvPr/>
          </p:nvSpPr>
          <p:spPr>
            <a:xfrm>
              <a:off x="4807800" y="1268280"/>
              <a:ext cx="2628360" cy="18032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94680" bIns="9468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истема профилакт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901"/>
                </a:spcAft>
                <a:tabLst>
                  <a:tab algn="l" pos="0"/>
                  <a:tab algn="l" pos="976320"/>
                  <a:tab algn="l" pos="1952640"/>
                  <a:tab algn="l" pos="2928960"/>
                  <a:tab algn="l" pos="3905280"/>
                  <a:tab algn="l" pos="4881600"/>
                  <a:tab algn="l" pos="5857920"/>
                  <a:tab algn="l" pos="6834240"/>
                  <a:tab algn="l" pos="7810560"/>
                  <a:tab algn="l" pos="8786880"/>
                  <a:tab algn="l" pos="9763200"/>
                  <a:tab algn="l" pos="107395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олилиния 10"/>
            <p:cNvSpPr/>
            <p:nvPr/>
          </p:nvSpPr>
          <p:spPr>
            <a:xfrm flipH="1" rot="20051400">
              <a:off x="5762880" y="3997080"/>
              <a:ext cx="1112400" cy="676080"/>
            </a:xfrm>
            <a:custGeom>
              <a:avLst/>
              <a:gdLst>
                <a:gd name="textAreaLeft" fmla="*/ 203040 w 1112400"/>
                <a:gd name="textAreaRight" fmla="*/ 1112760 w 1112400"/>
                <a:gd name="textAreaTop" fmla="*/ 135000 h 676080"/>
                <a:gd name="textAreaBottom" fmla="*/ 54108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4320"/>
                  </a:moveTo>
                  <a:lnTo>
                    <a:pt x="6565" y="4320"/>
                  </a:lnTo>
                  <a:lnTo>
                    <a:pt x="6565" y="0"/>
                  </a:lnTo>
                  <a:lnTo>
                    <a:pt x="0" y="10800"/>
                  </a:lnTo>
                  <a:lnTo>
                    <a:pt x="6565" y="21600"/>
                  </a:lnTo>
                  <a:lnTo>
                    <a:pt x="6565" y="17280"/>
                  </a:lnTo>
                  <a:lnTo>
                    <a:pt x="21600" y="17280"/>
                  </a:lnTo>
                  <a:lnTo>
                    <a:pt x="21600" y="4320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олилиния 11"/>
            <p:cNvSpPr/>
            <p:nvPr/>
          </p:nvSpPr>
          <p:spPr>
            <a:xfrm>
              <a:off x="6751800" y="2711520"/>
              <a:ext cx="2253960" cy="16534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960" rIns="93960" tIns="93960" bIns="93960" anchor="ctr" anchorCtr="1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Отказ от вредных привыче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382-C6B8-40F7-A368-383458CF6FC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727200" y="63565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14018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154080" y="1047600"/>
            <a:ext cx="903600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ти школ, содействующих здоровь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еализация профилактически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овлечение семей обучающихся в программы по формированию здорового образа жизни («Путь к успеху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Участие школьников в профилактической работе, реализации социально-значимых проектов («Основы лидерства», «Самостоятельные дети» и др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лизация проекта «Раннее выявление отклонений в состоянии здоровья детей с использованием аппаратно-программного комплекса «АРМИС»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еализация проекта «Путь к здоровью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портивно-массовые проекты (ВФСК ГТО, ШБЛ «КЭС-БАСКЕТ»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сероссийские спортивные соревнования школьников «Президентские состязания» и «Президентские спортивные игры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4CC-12BF-4574-A911-2FB0BF48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Основные здоровьесберегающие прое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828-D375-4046-BB40-F4DB58A90E2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D86-E0A1-4BDC-8DEB-C6A11834BD0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2"/>
          <a:stretch/>
        </p:blipFill>
        <p:spPr>
          <a:xfrm>
            <a:off x="700200" y="642312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Школы, содействующие здоров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560" y="907560"/>
            <a:ext cx="4995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Бронзовы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Инфраструкту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Физическое разви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Пит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Превентивные ме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Серебряны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-4, 5. Профильные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ahoma"/>
              </a:rPr>
              <a:t>Золотой уров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-5, 6. Кад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. Политика содействия здоровь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.   Социальное партнер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F240-7E6D-4715-BD23-791A0092DBA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Объект 12" descr=""/>
          <p:cNvPicPr/>
          <p:nvPr/>
        </p:nvPicPr>
        <p:blipFill>
          <a:blip r:embed="rId1"/>
          <a:stretch/>
        </p:blipFill>
        <p:spPr>
          <a:xfrm>
            <a:off x="4737240" y="1074600"/>
            <a:ext cx="4389120" cy="4492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"/>
          <p:cNvPicPr/>
          <p:nvPr/>
        </p:nvPicPr>
        <p:blipFill>
          <a:blip r:embed="rId2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Реализация технологий массовой первичной профилактики «школьных форм патологий»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  <a:ea typeface="Tahoma"/>
              </a:rPr>
              <a:t> (технологии В.Ф Базарного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21A-2185-411C-AAB2-A8E3AB84620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Соркина\Documents\Совещания\Дни Татарстана в Москве\МОСКВА\P1070617.JPG"/>
          <p:cNvPicPr/>
          <p:nvPr/>
        </p:nvPicPr>
        <p:blipFill>
          <a:blip r:embed="rId1"/>
          <a:stretch/>
        </p:blipFill>
        <p:spPr>
          <a:xfrm>
            <a:off x="0" y="1353960"/>
            <a:ext cx="4788000" cy="2664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C:\Users\Соркина\Documents\Совещания\Дни Татарстана в Москве\МОСКВА\P1070640.JPG"/>
          <p:cNvPicPr/>
          <p:nvPr/>
        </p:nvPicPr>
        <p:blipFill>
          <a:blip r:embed="rId2"/>
          <a:stretch/>
        </p:blipFill>
        <p:spPr>
          <a:xfrm>
            <a:off x="4764240" y="1353960"/>
            <a:ext cx="4379760" cy="2722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BA79~1\AppData\Local\Temp\Rar$DI18.672\IMG_9740.JPG"/>
          <p:cNvPicPr/>
          <p:nvPr/>
        </p:nvPicPr>
        <p:blipFill>
          <a:blip r:embed="rId3"/>
          <a:stretch/>
        </p:blipFill>
        <p:spPr>
          <a:xfrm>
            <a:off x="-52560" y="3478320"/>
            <a:ext cx="4695840" cy="2340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BA79~1\AppData\Local\Temp\Rar$DI23.422\P1120004.JPG"/>
          <p:cNvPicPr/>
          <p:nvPr/>
        </p:nvPicPr>
        <p:blipFill>
          <a:blip r:embed="rId4"/>
          <a:stretch/>
        </p:blipFill>
        <p:spPr>
          <a:xfrm>
            <a:off x="4643280" y="3789360"/>
            <a:ext cx="4500720" cy="1986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"/>
          <p:cNvPicPr/>
          <p:nvPr/>
        </p:nvPicPr>
        <p:blipFill>
          <a:blip r:embed="rId5"/>
          <a:stretch/>
        </p:blipFill>
        <p:spPr>
          <a:xfrm>
            <a:off x="847800" y="6384960"/>
            <a:ext cx="851040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6:57:32Z</dcterms:created>
  <dc:creator>Админ</dc:creator>
  <dc:description/>
  <dc:language>en-US</dc:language>
  <cp:lastModifiedBy>Соркина</cp:lastModifiedBy>
  <cp:lastPrinted>2014-10-30T13:24:57Z</cp:lastPrinted>
  <dcterms:modified xsi:type="dcterms:W3CDTF">2014-11-01T08:04:41Z</dcterms:modified>
  <cp:revision>524</cp:revision>
  <dc:subject/>
  <dc:title>Слайд 1</dc:title>
</cp:coreProperties>
</file>