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.png" ContentType="image/png"/>
  <Override PartName="/ppt/media/image25.png" ContentType="image/png"/>
  <Override PartName="/ppt/media/image2.png" ContentType="image/png"/>
  <Override PartName="/ppt/media/image41.png" ContentType="image/png"/>
  <Override PartName="/ppt/media/image30.png" ContentType="image/png"/>
  <Override PartName="/ppt/media/image29.jpeg" ContentType="image/jpe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3.jpeg" ContentType="image/jpeg"/>
  <Override PartName="/ppt/media/image45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36.png" ContentType="image/png"/>
  <Override PartName="/ppt/media/image40.png" ContentType="image/png"/>
  <Override PartName="/ppt/media/image11.jpeg" ContentType="image/jpeg"/>
  <Override PartName="/ppt/media/image31.jpeg" ContentType="image/jpeg"/>
  <Override PartName="/ppt/media/image4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5.png" ContentType="image/png"/>
  <Override PartName="/ppt/media/image35.png" ContentType="image/png"/>
  <Override PartName="/ppt/media/image44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33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28"/>
          </p:nvPr>
        </p:nvSpPr>
        <p:spPr>
          <a:xfrm>
            <a:off x="385128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29"/>
          </p:nvPr>
        </p:nvSpPr>
        <p:spPr>
          <a:xfrm>
            <a:off x="0" y="9427680"/>
            <a:ext cx="294336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30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9850A0-9CA1-431F-A639-12CA2743AA7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04816A26-A0BF-451F-AC37-4112E258954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E59457B6-77AF-45A5-91FA-049AE6C007E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6EE94DAB-18CD-4BCE-AF89-192652D5928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B862A973-3101-4853-8868-50AA73333AA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231C33A2-1583-49DD-9630-BC689C66B68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1D21079F-B7C9-454C-9CD3-191C96E5F00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EA0DC2B7-8EBD-4FA6-BF84-528D1C3B4CD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A2B0C513-D959-41A1-92ED-EABF5CE3CDA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7BA3DEBF-AD56-4F87-A74F-C752374229B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D86D6D83-E931-4FCC-9C11-7AF19DB693F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3C306ACF-B4C2-4BF1-AEB5-2B456FAA246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8CD56A58-8AE3-4E15-82B5-1C0376250AE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8A9D19DE-4F66-4C66-AB0B-E8C815C5EF2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4DA853A2-0FA4-4AD9-BD55-54874B5087E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D90E47B8-B688-49A9-80A0-B74BEF3ABD1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889" name="Номер слайда 3"/>
          <p:cNvSpPr/>
          <p:nvPr/>
        </p:nvSpPr>
        <p:spPr>
          <a:xfrm>
            <a:off x="4278240" y="10158480"/>
            <a:ext cx="3281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E4B3AC-61BA-417B-8388-35CC403743BF}" type="slidenum">
              <a: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14FF2E98-6F52-45A7-81E4-C3390DD1813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C0E35596-BEF1-4587-AF13-C0C748DFCAA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08080" y="814320"/>
            <a:ext cx="5340240" cy="40068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835" name="Номер слайда 3"/>
          <p:cNvSpPr/>
          <p:nvPr/>
        </p:nvSpPr>
        <p:spPr>
          <a:xfrm>
            <a:off x="4278240" y="10156680"/>
            <a:ext cx="32799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129FD34-6F5B-4710-B86C-53325A9C93B5}" type="slidenum">
              <a: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08080" y="814320"/>
            <a:ext cx="5340240" cy="40068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838" name="Номер слайда 3"/>
          <p:cNvSpPr/>
          <p:nvPr/>
        </p:nvSpPr>
        <p:spPr>
          <a:xfrm>
            <a:off x="4278240" y="10156680"/>
            <a:ext cx="32799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1D875B4-ADDF-4714-BE44-8B7E102C8B85}" type="slidenum">
              <a: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08080" y="814320"/>
            <a:ext cx="5340240" cy="40068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841" name="Номер слайда 3"/>
          <p:cNvSpPr/>
          <p:nvPr/>
        </p:nvSpPr>
        <p:spPr>
          <a:xfrm>
            <a:off x="4278240" y="10156680"/>
            <a:ext cx="32799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C501-8B60-433D-B19B-1149A19CB6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5300-8906-410A-B1FA-61582C9C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F73A-51A8-4623-AD5B-6617733E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2322F3-A826-498E-8675-A0EB785C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A52874-AC17-428A-BE9F-95985BC0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7C9B03-266D-4569-9116-2994E956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5DC5D2-F339-4A2A-BFEE-5B25E34D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4353BC-5BD2-4BE0-B62A-1D44E953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AEFD30-3549-4F96-BE47-9C3E60AB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7D289B-A32D-4D52-8659-C2000105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FD21BE-05C0-48A2-ADDD-4D1E68AE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EB489C-63BE-40FF-94B7-DAC83898B2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346DE-BBB1-4E9A-AEC7-4ED11D4E08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5E1C-A9BB-4E7A-91D2-4A9DF795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5C950-DA37-440B-85F7-9BB42798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6F0C1-A901-427D-A74E-04C93561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75D0F-606F-4310-99CB-B74C6987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19DBE-21C9-4C9B-BD91-CFC4B8C3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48CC5-A5AA-4668-AD40-F02BAC5A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E1DF7-2E5E-4057-A0DF-D0AB62FB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0E17D-3366-4479-B25E-862B3151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A9EC4-32BA-4437-917C-78AA3952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45B83-BA46-4FB9-AFC9-7406D541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6E8FD-3439-4ACB-879C-970D564B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62A4-3EA1-4D1F-AA30-A2D7957C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BDE7E-6210-4626-B990-DFC7A8A1BF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797EF3-055A-4FB4-B942-1FAB11B072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343356-1AA0-41CE-BC30-D0229ED6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605045-B227-4884-9CA2-B2BB3A1F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F96E2E-0804-4DB4-A695-1A048511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9B1C99-E3BA-499F-AC2E-39536378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AE0EA1-56F9-4401-BD88-536B345D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848CB3-8EF5-4FD4-AB12-0D95B315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16130C-0392-4947-9D3F-E25110FD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E97124-A081-4069-A02B-108DDE70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0E508-7CF1-49F3-B0E9-786B74D8C2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FEC7F9-D31A-48F4-9A8B-98E76288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021436-C3DA-4129-AF2D-42010CCD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438302-E832-4826-91D8-6F61928D42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0405EF-C2D5-42D2-887F-7261C6EB0A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9BCCDC-A812-4E2C-BD01-60330DA8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ACC862-96F6-40C4-BE53-55EEF12A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0D6226-6A26-4F56-AB90-55562430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7C7DBD-9693-4579-B9CE-D6AA5AEA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F46EF7-B53D-431C-BC3D-5715041F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5C4700-2510-486B-9C33-E3736940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5168C-9C4E-4C76-9AFE-773A7B33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CCA400-0127-47EC-89C8-4EDC0719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8C018B-4CF7-40CA-9320-7D71AB97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C1F493-060B-447F-BD04-240F5CAE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129EB-4FB9-4FD9-AF10-A686A19E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928BFA-D350-4D54-9858-E904855CDE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E3B9B-A49E-4861-B0FD-0C32799962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03997-3F8A-4474-BB56-A43A83BD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46727-0AE3-420E-8438-518595E2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EC65E-97FE-4A15-B4BA-5B71034F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90762-6419-4004-8FDB-935B3221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709F8-56DF-44DB-8384-2269AF50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98D76-EB80-4BD2-95CA-E247B7547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00F03-9509-4377-9689-E1DFDA89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D9EA7-D714-4A26-93D9-C3500C9F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3E429-03D3-4A55-A94C-5BC21C23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1CD56-2D45-4974-A96D-E7086C38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EB256-6B33-40C4-BD00-CDF12BE7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6C219-54C1-4322-86E2-EB5EF3300C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0A3E8-6FA1-4C5D-872A-29F51B08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7BCB5-F7AD-4C92-AEDA-15A8E428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28391-52BF-4088-BDAD-8980FB28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305F1-E846-4943-8BC1-C498B9C9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ADC1-1E7B-43D2-A791-A148D0A4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2B457-93AE-4A89-ACD7-F4EE37EC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16FC5-BA54-4013-AC67-7715C24E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5F5CC-8581-4EF0-A103-7074E9F8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6DC97-7AAB-489B-97D2-126272D4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F01D3-C7A5-4E4F-9FCC-ECB29C1151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ACB192-120C-44E4-9B72-0E3F1E491F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52E4EC-3923-48E3-8B69-51125AA2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9318EE-8A00-4A79-A153-E6F6FC31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3B9FAD-65A7-426E-A133-6A987279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A4F244-5C07-42A7-A990-8304C801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AEFF-4BC6-490A-A9F9-8F85A910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F0FA89-3234-41F2-BCA8-6474A222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8F1474-432E-4986-A1B0-FA1D9A9D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E4031A-960C-4AD7-87C8-DD4BBC24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E68497-E4A8-41C8-89D1-415B1293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B3CE94-8927-4850-8C40-F1A3B1A8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589AFA-AF12-430F-8C24-3116A4C2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E4E33B-6F73-4533-8429-898D58A896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42CA1-2E9F-4238-86F7-5EDCCEBC7E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FA116-8C8A-479B-96BF-208764A3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1EB86-0280-447A-98E2-E0807ADF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BADC-078E-49AE-AD7B-AD3C4F6E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5970B-BC71-4D52-A526-390D0F04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61030-B9DA-43BB-BC04-498A95C4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FD6DE-9266-4E39-B61F-71D0C521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37827-B343-460D-A909-07D3E309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6D5B0-346F-40D0-9D24-269186B6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55816-FBD3-4274-B0F6-66119785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1DE8B-49F9-41BD-B94B-52485320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39581-FEFE-4EC9-ABCB-04875A79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A0D8F-7737-486F-9D01-C90F1ECB2C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3E5528-152C-4359-BC13-95311186C9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229A-1A02-4352-AAC1-8135A2C3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96E938-3465-4739-908B-6C659C06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10F881-5005-47B5-9626-4D5D47DA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9565D1-BF45-4349-8ED1-C20AB325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B40207-33E9-48F4-AB37-A05F0096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3BF9CE-4A14-480C-8076-54659D2D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E16AE6-F89A-478B-A5AE-FD6B39F6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29D74A-A19F-4CD2-B682-99068123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315E2B-D078-4A4C-AA41-9C6F3C9A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68B68C-7FCB-44F9-913B-91CF3EB4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109A04-76A4-4D7F-975B-7DE6B993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5D25-4971-4D83-BDAC-A9161FD2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EB1583-8A13-4CBF-8E9D-84EAA2C289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8C2203-69D6-4A8A-BFC8-AFC990CD48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5305FE-82A9-42CB-85DE-B5C8C5BE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4EC261-4451-498D-9BDB-1688C990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1D978D-6577-47A8-9A70-B74B2768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4B1255-EB1D-4286-A850-E79293FE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013C7F-DB76-49F4-9D37-984F6A82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A1E23C-58F8-4AF0-887D-A070674D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E44848-1D69-471F-B5DC-9E36B95B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BBAF76-0EB6-4941-81EF-BF7530FF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59F9-F715-4CA3-98B3-C620FDBC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728C7D-30CB-4686-A324-FB692362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896F3F-F1C1-435B-8F62-5DF843F0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A39457-C5C8-4FDD-AFD2-9484805280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C31D8-B2F8-4B6A-AB18-CC2F3A66DE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02305-149C-40BA-BB58-CAE37DB7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73C7A-394F-4210-A216-99A8EC30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924BC-26B7-4654-A5BA-08998052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89866-541A-4D7E-BEE9-295B02CC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80494-374B-4931-8149-86D1B195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2AF23-423C-45A2-BBAE-C872A65C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6825-BDF0-41D1-8439-CD28FDF6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B2A0D-82D1-4959-BF9C-051EFD75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22511-958B-4E76-96C2-8B7A41FE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53A4E-4A58-4013-83BE-EC197852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E9B9E-2A80-4AA9-962F-40A2DC4B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5B15C-A97C-4C1E-B68B-D51B7ADE23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DCFFCD-F609-4414-B2DF-47608644B7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92BCB5-C791-4814-9EF8-BFF91D28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EF24DB-5B6A-4E0E-BD42-3A7AC544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972C5A-AA88-4426-A8C0-E3804BF2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A2F196-115F-45BC-9DC6-60012AF5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B349-F528-45CB-99D0-A6E6872B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548347-8D51-4397-B961-DEAD2DB3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0DC01C-ED42-4C7F-A8DD-82FD5491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F812C9-B337-4719-9DB9-B12D7291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749787-FF02-4FC0-968E-8B9D57F4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9D0807-B18B-4148-9A8D-7A7AF5BB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E59636-3120-4BAE-8351-322DF464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FF207B-81AF-4649-9962-50ADDCCCEC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EF87F4-75CD-43D7-B6BF-204A1EAA96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8DBD24-1C8E-4483-A5F3-2EF60839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DC826C-5962-4E5A-B862-96AE3CEE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1442-C32A-45B2-BFDD-1CDABCE4EB1A}" type="datetime">
              <a:rPr b="0" lang="en-US" sz="1200" spc="-1" strike="noStrike">
                <a:solidFill>
                  <a:srgbClr val="898989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42CA-379D-47F2-9338-4F92F362F1A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4"/>
          <p:cNvSpPr/>
          <p:nvPr/>
        </p:nvSpPr>
        <p:spPr>
          <a:xfrm>
            <a:off x="3124080" y="6291360"/>
            <a:ext cx="2895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109800"/>
            <a:ext cx="82281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0"/>
          </p:nvPr>
        </p:nvSpPr>
        <p:spPr>
          <a:xfrm>
            <a:off x="457200" y="6288120"/>
            <a:ext cx="213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21"/>
          </p:nvPr>
        </p:nvSpPr>
        <p:spPr>
          <a:xfrm>
            <a:off x="6552720" y="6288120"/>
            <a:ext cx="2132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7D4D-548A-4C5B-B5BB-BFB6A5768232}" type="slidenum"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4"/>
          <p:cNvSpPr/>
          <p:nvPr/>
        </p:nvSpPr>
        <p:spPr>
          <a:xfrm>
            <a:off x="3124080" y="6291360"/>
            <a:ext cx="2895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109800"/>
            <a:ext cx="82281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2"/>
          </p:nvPr>
        </p:nvSpPr>
        <p:spPr>
          <a:xfrm>
            <a:off x="457200" y="6288120"/>
            <a:ext cx="213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88120"/>
            <a:ext cx="2132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261E-2FE7-44D9-8D58-8AC82A28FF1E}" type="slidenum"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4"/>
          <p:cNvSpPr/>
          <p:nvPr/>
        </p:nvSpPr>
        <p:spPr>
          <a:xfrm>
            <a:off x="3124080" y="6291360"/>
            <a:ext cx="2895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-109800"/>
            <a:ext cx="82281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4"/>
          </p:nvPr>
        </p:nvSpPr>
        <p:spPr>
          <a:xfrm>
            <a:off x="457200" y="6288120"/>
            <a:ext cx="213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sldNum" idx="25"/>
          </p:nvPr>
        </p:nvSpPr>
        <p:spPr>
          <a:xfrm>
            <a:off x="6552720" y="6288120"/>
            <a:ext cx="2132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031E-334E-40D8-B4A7-191C0B521024}" type="slidenum"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4"/>
          <p:cNvSpPr/>
          <p:nvPr/>
        </p:nvSpPr>
        <p:spPr>
          <a:xfrm>
            <a:off x="3124080" y="6291360"/>
            <a:ext cx="2895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-109800"/>
            <a:ext cx="82281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6"/>
          </p:nvPr>
        </p:nvSpPr>
        <p:spPr>
          <a:xfrm>
            <a:off x="457200" y="6288120"/>
            <a:ext cx="213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sldNum" idx="27"/>
          </p:nvPr>
        </p:nvSpPr>
        <p:spPr>
          <a:xfrm>
            <a:off x="6552720" y="6288120"/>
            <a:ext cx="2132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E02B-48CC-4159-BDA6-F10D84807B15}" type="slidenum"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109800"/>
            <a:ext cx="82281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88120"/>
            <a:ext cx="213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91360"/>
            <a:ext cx="2895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88120"/>
            <a:ext cx="2132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Microsoft YaHe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E8A1E9-F1C8-41C2-BFBF-DC2D88F4358B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124080" y="6291360"/>
            <a:ext cx="2895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109800"/>
            <a:ext cx="82281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457200" y="6288120"/>
            <a:ext cx="213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7"/>
          </p:nvPr>
        </p:nvSpPr>
        <p:spPr>
          <a:xfrm>
            <a:off x="6552720" y="6288120"/>
            <a:ext cx="2132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E176-4B19-4CE1-BFC1-E18A6C9D28C5}" type="slidenum"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3124080" y="6291360"/>
            <a:ext cx="2895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109800"/>
            <a:ext cx="82281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8"/>
          </p:nvPr>
        </p:nvSpPr>
        <p:spPr>
          <a:xfrm>
            <a:off x="457200" y="6288120"/>
            <a:ext cx="213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9"/>
          </p:nvPr>
        </p:nvSpPr>
        <p:spPr>
          <a:xfrm>
            <a:off x="6552720" y="6288120"/>
            <a:ext cx="2132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6824-866E-4AC2-95A6-6440648C1450}" type="slidenum"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3124080" y="6291360"/>
            <a:ext cx="2895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109800"/>
            <a:ext cx="82281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7200" y="6288120"/>
            <a:ext cx="213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88120"/>
            <a:ext cx="2132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EF19-988C-4BC5-9D01-DE0656277045}" type="slidenum"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3124080" y="6291360"/>
            <a:ext cx="2895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109800"/>
            <a:ext cx="82281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2"/>
          </p:nvPr>
        </p:nvSpPr>
        <p:spPr>
          <a:xfrm>
            <a:off x="457200" y="6288120"/>
            <a:ext cx="213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3"/>
          </p:nvPr>
        </p:nvSpPr>
        <p:spPr>
          <a:xfrm>
            <a:off x="6552720" y="6288120"/>
            <a:ext cx="2132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5899-70B1-4D20-A3DB-4452393846C7}" type="slidenum"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3124080" y="6291360"/>
            <a:ext cx="2895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109800"/>
            <a:ext cx="82281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4"/>
          </p:nvPr>
        </p:nvSpPr>
        <p:spPr>
          <a:xfrm>
            <a:off x="457200" y="6288120"/>
            <a:ext cx="213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88120"/>
            <a:ext cx="2132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DE42-E84F-4211-91B1-EE0B6C0C843E}" type="slidenum"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4"/>
          <p:cNvSpPr/>
          <p:nvPr/>
        </p:nvSpPr>
        <p:spPr>
          <a:xfrm>
            <a:off x="3124080" y="6291360"/>
            <a:ext cx="2895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109800"/>
            <a:ext cx="82281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6"/>
          </p:nvPr>
        </p:nvSpPr>
        <p:spPr>
          <a:xfrm>
            <a:off x="457200" y="6288120"/>
            <a:ext cx="213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7"/>
          </p:nvPr>
        </p:nvSpPr>
        <p:spPr>
          <a:xfrm>
            <a:off x="6552720" y="6288120"/>
            <a:ext cx="2132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0D7E-BE4D-4A66-A1F1-09D92F4F252C}" type="slidenum"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4"/>
          <p:cNvSpPr/>
          <p:nvPr/>
        </p:nvSpPr>
        <p:spPr>
          <a:xfrm>
            <a:off x="3124080" y="6291360"/>
            <a:ext cx="2895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109800"/>
            <a:ext cx="82281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8"/>
          </p:nvPr>
        </p:nvSpPr>
        <p:spPr>
          <a:xfrm>
            <a:off x="457200" y="6288120"/>
            <a:ext cx="213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88120"/>
            <a:ext cx="2132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3DC9-C83C-4233-AB9B-2CDEED43800C}" type="slidenum"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hyperlink" Target="mailto:rcvr2014@mail.ru" TargetMode="External"/><Relationship Id="rId5" Type="http://schemas.openxmlformats.org/officeDocument/2006/relationships/hyperlink" Target="mailto:rcvr2014@mail.ru" TargetMode="External"/><Relationship Id="rId6" Type="http://schemas.openxmlformats.org/officeDocument/2006/relationships/hyperlink" Target="mailto:rcvr2014@mail.ru" TargetMode="External"/><Relationship Id="rId7" Type="http://schemas.openxmlformats.org/officeDocument/2006/relationships/hyperlink" Target="mailto:rcvr2014@mail.ru" TargetMode="External"/><Relationship Id="rId8" Type="http://schemas.openxmlformats.org/officeDocument/2006/relationships/hyperlink" Target="mailto:rcvr2014@mail.ru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image" Target="../media/image30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5" descr=""/>
          <p:cNvPicPr/>
          <p:nvPr/>
        </p:nvPicPr>
        <p:blipFill>
          <a:blip r:embed="rId1"/>
          <a:stretch/>
        </p:blipFill>
        <p:spPr>
          <a:xfrm>
            <a:off x="127080" y="0"/>
            <a:ext cx="140184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Прямоугольник 2"/>
          <p:cNvSpPr/>
          <p:nvPr/>
        </p:nvSpPr>
        <p:spPr>
          <a:xfrm>
            <a:off x="250920" y="1471680"/>
            <a:ext cx="878184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стерство образования и науки Республики Татар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«Вопросы здоровьесбереж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в системе образ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Республики Татарста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.В. Соркина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ущий советник сектор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ализации программ внеуроч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здоровьесберегающе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File:Coat of Arms of Tatarstan.svg"/>
          <p:cNvPicPr/>
          <p:nvPr/>
        </p:nvPicPr>
        <p:blipFill>
          <a:blip r:embed="rId2"/>
          <a:stretch/>
        </p:blipFill>
        <p:spPr>
          <a:xfrm>
            <a:off x="3971880" y="182520"/>
            <a:ext cx="1085760" cy="104796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 rot="10800000">
            <a:off x="2195640" y="6408720"/>
            <a:ext cx="543240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4" name="Picture 13" descr=""/>
          <p:cNvPicPr/>
          <p:nvPr/>
        </p:nvPicPr>
        <p:blipFill>
          <a:blip r:embed="rId3"/>
          <a:stretch/>
        </p:blipFill>
        <p:spPr>
          <a:xfrm>
            <a:off x="847800" y="6384960"/>
            <a:ext cx="8510400" cy="596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401840" cy="68230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 txBox="1"/>
          <p:nvPr/>
        </p:nvSpPr>
        <p:spPr>
          <a:xfrm>
            <a:off x="712800" y="705960"/>
            <a:ext cx="8251920" cy="60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Создана сеть базовых площадок п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   реализации технологий массовой первичной профилактики «школьных форм патологий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ahoma"/>
              </a:rPr>
              <a:t>- МАОУ «Средняя общеобразовательная школа №2» Лениногорского муниципального райо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ahoma"/>
              </a:rPr>
              <a:t>- МБОУ «Гимназия №7» Ново-Савиновского района г. Казан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ahoma"/>
              </a:rPr>
              <a:t>- МБОУ «Средняя общеобразовательная школа №167 с углубленным изучением  английского языка» Советского района г. Казан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ahoma"/>
              </a:rPr>
              <a:t>- МБОУ «Средняя общеобразовательная школа №15» Нижнекамского муниципального райо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ahoma"/>
              </a:rPr>
              <a:t>- МБОУ «Средняя общеобразовательная школа №28» г. Набережные Челн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ahoma"/>
              </a:rPr>
              <a:t>- МБОУ «Лицей №159» Советского района г. Казан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ahoma"/>
              </a:rPr>
              <a:t>- МАОУ «Средняя общеобразовательная школа №5» Лениногорского муниципального райо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ahoma"/>
              </a:rPr>
              <a:t>- МАОУ «Средняя общеобразовательная школа №146» Ново-Савиновского района г. Казан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ahoma"/>
              </a:rPr>
              <a:t>- МАОУ «Средняя общеобразовательная школа №56» г. Набережные Челн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ahoma"/>
              </a:rPr>
              <a:t>- МБОУ «Гимназия №76» г. Набережные Челн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ahoma"/>
              </a:rPr>
              <a:t>- МБОУ «Гимназия №6» Приволжского района г. Казан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B8E3-846B-425E-A9A1-F6CCCAD3D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8276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Tahoma"/>
              </a:rPr>
              <a:t>Конкурс «Путь к здоровью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59AC-B4AE-4A6F-8B8D-7745B3A732E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6F5B-3930-4404-913F-C43DEDD9CC9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3" descr=""/>
          <p:cNvPicPr/>
          <p:nvPr/>
        </p:nvPicPr>
        <p:blipFill>
          <a:blip r:embed="rId2"/>
          <a:stretch/>
        </p:blipFill>
        <p:spPr>
          <a:xfrm>
            <a:off x="700200" y="6423120"/>
            <a:ext cx="851040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"/>
          <p:cNvPicPr/>
          <p:nvPr/>
        </p:nvPicPr>
        <p:blipFill>
          <a:blip r:embed="rId1"/>
          <a:stretch/>
        </p:blipFill>
        <p:spPr>
          <a:xfrm>
            <a:off x="0" y="-34920"/>
            <a:ext cx="1401840" cy="68580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 txBox="1"/>
          <p:nvPr/>
        </p:nvSpPr>
        <p:spPr>
          <a:xfrm>
            <a:off x="728640" y="696960"/>
            <a:ext cx="8251920" cy="60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 МБОУ «Лицей №9 им. А.С. Пушкина» Зеленодольского муниципального райо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 МБОУ «Сунчелеевская средняя общеобразовательная школа» Аксубаевского муниципального райо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 МБОУ «Балтасинская гимназия» Балтасинского муниципального райо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 МБОУ «Лицей №121» (Центр образования №178) Советского района г. Казан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 МБОУ «Средняя общеобразовательная татарско-русская школа №113 с углубленным изучением отдельных предметов» Ново-Савиновского района г. Казан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 МАОУ для детей дошкольного и младшего школьного возраста «Прогимназия №64» г. Набережные Челн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 МБОУ «Лицей №14» Зеленодольского муниципального район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 МБОУ «Арская средняя общеобразовательная школа №1 им. В.Ф. Ежкова с углубленным изучением отдельных предметов» Арского    муниципального райо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 МБОУ «Средняя общеобразовательная школа №22 с углубленным изучением английского языка» Нижнекамского муниципального райо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 МБОУ «Заинская средняя общеобразовательная школа №1» Заинского муниципального райо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10B7-D9C3-4C28-9DD4-BB32C2E1A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8276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Tahoma"/>
              </a:rPr>
              <a:t>Конкурс «Путь к здоровью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3673-0E82-45F8-967F-A360A484291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2040-DEBF-4321-A854-E9E2C24A9E8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3" descr=""/>
          <p:cNvPicPr/>
          <p:nvPr/>
        </p:nvPicPr>
        <p:blipFill>
          <a:blip r:embed="rId2"/>
          <a:stretch/>
        </p:blipFill>
        <p:spPr>
          <a:xfrm>
            <a:off x="700200" y="6423120"/>
            <a:ext cx="851040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61B7-0559-4852-B77B-8F88230F499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893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002060"/>
                </a:solidFill>
                <a:latin typeface="Tahoma"/>
              </a:rPr>
              <a:t>Раннее выявление отклонений в состоянии здоровья школьников с использованием аппаратно-программного комплекса "АРМИС"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5" name="Picture 2" descr="C:\Work\Projects\Armis\Plakat\box.png"/>
          <p:cNvPicPr/>
          <p:nvPr/>
        </p:nvPicPr>
        <p:blipFill>
          <a:blip r:embed="rId1"/>
          <a:stretch/>
        </p:blipFill>
        <p:spPr>
          <a:xfrm>
            <a:off x="4084560" y="3697200"/>
            <a:ext cx="4178520" cy="27291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" descr="C:\Work\Projects\Armis\Plakat\notebook.png"/>
          <p:cNvPicPr/>
          <p:nvPr/>
        </p:nvPicPr>
        <p:blipFill>
          <a:blip r:embed="rId2"/>
          <a:stretch/>
        </p:blipFill>
        <p:spPr>
          <a:xfrm>
            <a:off x="6732720" y="1628640"/>
            <a:ext cx="2411280" cy="1962360"/>
          </a:xfrm>
          <a:prstGeom prst="rect">
            <a:avLst/>
          </a:prstGeom>
          <a:ln w="0">
            <a:noFill/>
          </a:ln>
        </p:spPr>
      </p:pic>
      <p:sp>
        <p:nvSpPr>
          <p:cNvPr id="627" name="Объект 2"/>
          <p:cNvSpPr/>
          <p:nvPr/>
        </p:nvSpPr>
        <p:spPr>
          <a:xfrm>
            <a:off x="304920" y="1523880"/>
            <a:ext cx="4495680" cy="28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оугольник 1"/>
          <p:cNvSpPr/>
          <p:nvPr/>
        </p:nvSpPr>
        <p:spPr>
          <a:xfrm>
            <a:off x="971640" y="2055960"/>
            <a:ext cx="5321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воляет выявлять  отклонения   в сердечно-сосудистой,  дыхательной, зрительной,  слуховой и центральной нервной систе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3"/>
          <a:stretch/>
        </p:blipFill>
        <p:spPr>
          <a:xfrm>
            <a:off x="0" y="196920"/>
            <a:ext cx="539640" cy="682308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"/>
          <p:cNvPicPr/>
          <p:nvPr/>
        </p:nvPicPr>
        <p:blipFill>
          <a:blip r:embed="rId4"/>
          <a:stretch/>
        </p:blipFill>
        <p:spPr>
          <a:xfrm>
            <a:off x="270000" y="6423120"/>
            <a:ext cx="894060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Результаты доврачебной скрининговой диагностик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700200" y="1628640"/>
          <a:ext cx="8048520" cy="4284720"/>
        </p:xfrm>
        <a:graphic>
          <a:graphicData uri="http://schemas.openxmlformats.org/drawingml/2006/table">
            <a:tbl>
              <a:tblPr/>
              <a:tblGrid>
                <a:gridCol w="2300040"/>
                <a:gridCol w="2032200"/>
                <a:gridCol w="2030400"/>
                <a:gridCol w="1685880"/>
              </a:tblGrid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2-2013 учебный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3-2014 учебный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ичество обследованных обучающих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 8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3% от общего числа обучаю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7% от общего числа обучаю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 7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5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ичество обучающихся, направленны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лечебно-профилактические учреждения для подтверждения результатов обследов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9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6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5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3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44F6-A42B-4589-B461-1A05D856FD0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-701640" y="0"/>
            <a:ext cx="1401840" cy="68580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" descr=""/>
          <p:cNvPicPr/>
          <p:nvPr/>
        </p:nvPicPr>
        <p:blipFill>
          <a:blip r:embed="rId2"/>
          <a:stretch/>
        </p:blipFill>
        <p:spPr>
          <a:xfrm>
            <a:off x="700200" y="6423120"/>
            <a:ext cx="851040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ahoma"/>
              </a:rPr>
              <a:t>Взаимодействие общеобразовательных организаций с Центрами здоровья</a:t>
            </a:r>
            <a:br>
              <a:rPr sz="3000"/>
            </a:br>
            <a:r>
              <a:rPr b="1" lang="ru-RU" sz="3000" spc="-1" strike="noStrike">
                <a:solidFill>
                  <a:srgbClr val="002060"/>
                </a:solidFill>
                <a:latin typeface="Tahoma"/>
              </a:rPr>
              <a:t> для детей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.17 Плана действий по модернизации общего образования на 2011-2015 годы, утвержденного Распоряжением Правительства Российской Федерации от 7 сентября 2011 года №1507 - </a:t>
            </a:r>
            <a:r>
              <a:rPr b="0" lang="ru-RU" sz="2200" spc="-1" strike="noStrike">
                <a:solidFill>
                  <a:srgbClr val="ff0000"/>
                </a:solidFill>
                <a:latin typeface="Tahoma"/>
              </a:rPr>
              <a:t>необходимо систематизировать работу по развитию взаимодействия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за 9 месяцев 2014 года на базе Центров здоровья для детей всего обследовано 18 994 ребенка, из них  14 845 (78,2%) - школьного возраста, из которых здоровыми признано 4 453 школьника (30% от общего количество обследованных школьников), имеют функциональные расстройства 10 392 школьника (70% от общего количества обследованных школьников)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46CD-7AB0-4A17-9A09-0829A78DA0E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3" descr=""/>
          <p:cNvPicPr/>
          <p:nvPr/>
        </p:nvPicPr>
        <p:blipFill>
          <a:blip r:embed="rId1"/>
          <a:stretch/>
        </p:blipFill>
        <p:spPr>
          <a:xfrm>
            <a:off x="700200" y="6081840"/>
            <a:ext cx="851040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ahoma"/>
              </a:rPr>
              <a:t>Направления деятельности 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Tahoma"/>
              </a:rPr>
              <a:t>Центров здоровья для дете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Раннее выявление отклонений в состоянии здоровья дете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Формирование культуры здорового образа жизн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6308-6F6E-429B-92FB-807A2E93B2C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3" descr=""/>
          <p:cNvPicPr/>
          <p:nvPr/>
        </p:nvPicPr>
        <p:blipFill>
          <a:blip r:embed="rId1"/>
          <a:stretch/>
        </p:blipFill>
        <p:spPr>
          <a:xfrm>
            <a:off x="179280" y="5989680"/>
            <a:ext cx="896472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1" descr=""/>
          <p:cNvPicPr/>
          <p:nvPr/>
        </p:nvPicPr>
        <p:blipFill>
          <a:blip r:embed="rId1"/>
          <a:stretch/>
        </p:blipFill>
        <p:spPr>
          <a:xfrm>
            <a:off x="-7920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2" descr=""/>
          <p:cNvPicPr/>
          <p:nvPr/>
        </p:nvPicPr>
        <p:blipFill>
          <a:blip r:embed="rId2"/>
          <a:stretch/>
        </p:blipFill>
        <p:spPr>
          <a:xfrm>
            <a:off x="0" y="-84240"/>
            <a:ext cx="1403280" cy="68547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"/>
          <p:cNvPicPr/>
          <p:nvPr/>
        </p:nvPicPr>
        <p:blipFill>
          <a:blip r:embed="rId3"/>
          <a:stretch/>
        </p:blipFill>
        <p:spPr>
          <a:xfrm>
            <a:off x="179280" y="23976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647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1619280" y="204840"/>
            <a:ext cx="70563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6"/>
          <p:cNvSpPr/>
          <p:nvPr/>
        </p:nvSpPr>
        <p:spPr>
          <a:xfrm>
            <a:off x="701640" y="254160"/>
            <a:ext cx="83710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Всероссийский физкультурно-спортив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комплекс «Готов к труду и обороне» (ГТ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каз  Президента  Российской Федер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24 марта 2014 года №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О Всероссийском физкультурно-спортивном комплек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Готов к труду и обороне (ГТО)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1" descr=""/>
          <p:cNvPicPr/>
          <p:nvPr/>
        </p:nvPicPr>
        <p:blipFill>
          <a:blip r:embed="rId1"/>
          <a:stretch/>
        </p:blipFill>
        <p:spPr>
          <a:xfrm>
            <a:off x="-1908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2" descr=""/>
          <p:cNvPicPr/>
          <p:nvPr/>
        </p:nvPicPr>
        <p:blipFill>
          <a:blip r:embed="rId2"/>
          <a:stretch/>
        </p:blipFill>
        <p:spPr>
          <a:xfrm>
            <a:off x="0" y="-84240"/>
            <a:ext cx="1403280" cy="685476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3" descr=""/>
          <p:cNvPicPr/>
          <p:nvPr/>
        </p:nvPicPr>
        <p:blipFill>
          <a:blip r:embed="rId3"/>
          <a:stretch/>
        </p:blipFill>
        <p:spPr>
          <a:xfrm>
            <a:off x="179280" y="23976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653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1619280" y="204840"/>
            <a:ext cx="70563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701640" y="204840"/>
            <a:ext cx="8371080" cy="551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Tahoma"/>
                <a:ea typeface="Tahoma"/>
              </a:rPr>
              <a:t>Нормативные 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ahoma"/>
                <a:ea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-    Указ  Президента  Российской Федерации от 24 марта 2014 года №17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-  Распоряжение Правительства Российской Федерации №1165-р от 30 июня 2014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- Приказ Министерства спорта Российской Федерации от  09.07.2014 года  №574/1 «Об утверждении списка субъектов Российской Федерации, осуществляющих организационно-экспериментальную апробацию внедрения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сероссийского физкультурно-спортивного комплекса «Готов к труду и обороне» (ГТ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- Приказ Министерства спорта Российской Федерации от  08.07.2014 года  №575 «Об утверждении государственных требований  к уровню физической подготовленности населения при выполнении нормативов Всероссийского физкультурно-спортивного комплекса «Готов к труду и обороне» (ГТ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- Распоряжение Кабинета Министров Республики Татарстан от 04.09.2014 года №1763-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-  Приказ Министерства образования и науки Республики Татарстан от 10.07.2014 года №3907/14 «Об апробации Всероссийского физкультурно-спортивного комплекса «Готов к труду и обороне» (ГТО) в образовательных организациях Республики Татарстан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1" descr=""/>
          <p:cNvPicPr/>
          <p:nvPr/>
        </p:nvPicPr>
        <p:blipFill>
          <a:blip r:embed="rId1"/>
          <a:stretch/>
        </p:blipFill>
        <p:spPr>
          <a:xfrm>
            <a:off x="-1908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" descr=""/>
          <p:cNvPicPr/>
          <p:nvPr/>
        </p:nvPicPr>
        <p:blipFill>
          <a:blip r:embed="rId2"/>
          <a:stretch/>
        </p:blipFill>
        <p:spPr>
          <a:xfrm>
            <a:off x="136440" y="-106200"/>
            <a:ext cx="1403280" cy="68562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3" descr=""/>
          <p:cNvPicPr/>
          <p:nvPr/>
        </p:nvPicPr>
        <p:blipFill>
          <a:blip r:embed="rId3"/>
          <a:stretch/>
        </p:blipFill>
        <p:spPr>
          <a:xfrm>
            <a:off x="179280" y="23976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659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1619280" y="204840"/>
            <a:ext cx="70563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701640" y="254160"/>
            <a:ext cx="8371080" cy="405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Нормативные 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аз Министерства образования и науки Республики Татарстан от 10.07.2014 года №3907/14 «Об апробации Всероссийского физкультурно-спортивного комплекса «Готов к труду и обороне» (ГТО) в образовательных организациях Республики Татарстан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частни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 общеобразовательные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овательные организации С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1" descr=""/>
          <p:cNvPicPr/>
          <p:nvPr/>
        </p:nvPicPr>
        <p:blipFill>
          <a:blip r:embed="rId1"/>
          <a:stretch/>
        </p:blipFill>
        <p:spPr>
          <a:xfrm>
            <a:off x="-1908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2" descr=""/>
          <p:cNvPicPr/>
          <p:nvPr/>
        </p:nvPicPr>
        <p:blipFill>
          <a:blip r:embed="rId2"/>
          <a:stretch/>
        </p:blipFill>
        <p:spPr>
          <a:xfrm>
            <a:off x="0" y="-84240"/>
            <a:ext cx="1403280" cy="68547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3" descr=""/>
          <p:cNvPicPr/>
          <p:nvPr/>
        </p:nvPicPr>
        <p:blipFill>
          <a:blip r:embed="rId3"/>
          <a:stretch/>
        </p:blipFill>
        <p:spPr>
          <a:xfrm>
            <a:off x="179280" y="23976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665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5"/>
          <p:cNvSpPr/>
          <p:nvPr/>
        </p:nvSpPr>
        <p:spPr>
          <a:xfrm>
            <a:off x="1619280" y="204840"/>
            <a:ext cx="70563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6"/>
          <p:cNvSpPr/>
          <p:nvPr/>
        </p:nvSpPr>
        <p:spPr>
          <a:xfrm>
            <a:off x="701640" y="254160"/>
            <a:ext cx="837108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Условия допуска к сдаче те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бучающиеся и студенты основной группы по физической культуре на основании допуска медицинского работ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писки обучающихся и студентов, допущенных к сдаче нормативов, заверяются руководителем образовательной организаци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40184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542880" y="1413000"/>
          <a:ext cx="8229600" cy="4525920"/>
        </p:xfrm>
        <a:graphic>
          <a:graphicData uri="http://schemas.openxmlformats.org/drawingml/2006/table"/>
        </a:graphic>
      </p:graphicFrame>
      <p:sp>
        <p:nvSpPr>
          <p:cNvPr id="5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BC7C-8841-4FB7-81E1-230E1B0B996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4"/>
          <p:cNvSpPr/>
          <p:nvPr/>
        </p:nvSpPr>
        <p:spPr>
          <a:xfrm>
            <a:off x="539640" y="115920"/>
            <a:ext cx="81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ahoma"/>
                <a:ea typeface="Tahoma"/>
              </a:rPr>
              <a:t>УК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ahoma"/>
                <a:ea typeface="Tahom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ahoma"/>
                <a:ea typeface="Tahoma"/>
              </a:rPr>
              <a:t>ПРЕЗИДЕНТА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ahoma"/>
                <a:ea typeface="Tahom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ahoma"/>
                <a:ea typeface="Tahoma"/>
              </a:rPr>
              <a:t>О НАЦИОНАЛЬНОЙ СТРАТЕ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ahoma"/>
                <a:ea typeface="Tahoma"/>
              </a:rPr>
              <a:t>ДЕЙСТВИЙ В ИНТЕРЕСАХ ДЕТЕЙ НА 2012 - 2017 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ahoma"/>
                <a:ea typeface="Tahom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5"/>
          <p:cNvSpPr/>
          <p:nvPr/>
        </p:nvSpPr>
        <p:spPr>
          <a:xfrm>
            <a:off x="4440240" y="1849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 июня 2012 года N 76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6"/>
          <p:cNvSpPr/>
          <p:nvPr/>
        </p:nvSpPr>
        <p:spPr>
          <a:xfrm>
            <a:off x="179280" y="2517840"/>
            <a:ext cx="8832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Основные направления ре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емейная политика детствосбере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оступность качественного обучения и воспитания, культурное развитие и информационная безопасность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дравоохранение, дружественное к детям, и здоровый образ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вные возможности для детей, нуждающихся в особой заботе госуда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системы защиты и обеспечения прав и интересов детей и дружественного к ребенку правосуд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ети - участники реализации Национальной страте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3" descr=""/>
          <p:cNvPicPr/>
          <p:nvPr/>
        </p:nvPicPr>
        <p:blipFill>
          <a:blip r:embed="rId2"/>
          <a:stretch/>
        </p:blipFill>
        <p:spPr>
          <a:xfrm>
            <a:off x="700200" y="6423120"/>
            <a:ext cx="851040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1" descr=""/>
          <p:cNvPicPr/>
          <p:nvPr/>
        </p:nvPicPr>
        <p:blipFill>
          <a:blip r:embed="rId1"/>
          <a:stretch/>
        </p:blipFill>
        <p:spPr>
          <a:xfrm>
            <a:off x="-1908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2" descr=""/>
          <p:cNvPicPr/>
          <p:nvPr/>
        </p:nvPicPr>
        <p:blipFill>
          <a:blip r:embed="rId2"/>
          <a:stretch/>
        </p:blipFill>
        <p:spPr>
          <a:xfrm>
            <a:off x="152280" y="-63360"/>
            <a:ext cx="1403640" cy="685620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3" descr=""/>
          <p:cNvPicPr/>
          <p:nvPr/>
        </p:nvPicPr>
        <p:blipFill>
          <a:blip r:embed="rId3"/>
          <a:stretch/>
        </p:blipFill>
        <p:spPr>
          <a:xfrm>
            <a:off x="179280" y="23976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671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1619280" y="204840"/>
            <a:ext cx="70563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6"/>
          <p:cNvSpPr/>
          <p:nvPr/>
        </p:nvSpPr>
        <p:spPr>
          <a:xfrm>
            <a:off x="701640" y="254160"/>
            <a:ext cx="837108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Возрастная структур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 ступень: 1 - 2 классы (6 - 8 л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I ступень: 3 - 4 классы (9 - 10 л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II ступень: 5 - 6 классы (11 - 12 л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V ступень: 7 - 9 классы (13 - 15 л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V ступень: 10 - 11 классы, среднее профессиональное образование (16 - 17 л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1" descr=""/>
          <p:cNvPicPr/>
          <p:nvPr/>
        </p:nvPicPr>
        <p:blipFill>
          <a:blip r:embed="rId1"/>
          <a:stretch/>
        </p:blipFill>
        <p:spPr>
          <a:xfrm>
            <a:off x="-1908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2" descr=""/>
          <p:cNvPicPr/>
          <p:nvPr/>
        </p:nvPicPr>
        <p:blipFill>
          <a:blip r:embed="rId2"/>
          <a:stretch/>
        </p:blipFill>
        <p:spPr>
          <a:xfrm>
            <a:off x="0" y="-84240"/>
            <a:ext cx="1403280" cy="685476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3" descr=""/>
          <p:cNvPicPr/>
          <p:nvPr/>
        </p:nvPicPr>
        <p:blipFill>
          <a:blip r:embed="rId3"/>
          <a:stretch/>
        </p:blipFill>
        <p:spPr>
          <a:xfrm>
            <a:off x="179280" y="23976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677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1619280" y="204840"/>
            <a:ext cx="70563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6"/>
          <p:cNvSpPr/>
          <p:nvPr/>
        </p:nvSpPr>
        <p:spPr>
          <a:xfrm>
            <a:off x="701640" y="254160"/>
            <a:ext cx="837108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Виды испыт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Челночный бег 3х10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Бег на 30, 60, 100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Бег на 1; 1,5; 2; 3 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рыжок в длину с места, прыжок в длину с разбе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одтягивания на низкой и высокой перекладинах, рывок гири, сгибание и разгибание рук в упоре лежа, поднимание туловища из положения лежа на сп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Наклон вперед из положения стоя на полу или гимнастической скам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Метание спортивного снаряда в цель и на д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Плавание на 8, 10, 15, 25, 50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Бег на лыжах, кросс по пересеченной местности на 1, 2, 3, 5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Стрельба из положения сидя и положения сто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Туристский по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1" descr=""/>
          <p:cNvPicPr/>
          <p:nvPr/>
        </p:nvPicPr>
        <p:blipFill>
          <a:blip r:embed="rId1"/>
          <a:stretch/>
        </p:blipFill>
        <p:spPr>
          <a:xfrm>
            <a:off x="-1908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" descr=""/>
          <p:cNvPicPr/>
          <p:nvPr/>
        </p:nvPicPr>
        <p:blipFill>
          <a:blip r:embed="rId2"/>
          <a:stretch/>
        </p:blipFill>
        <p:spPr>
          <a:xfrm>
            <a:off x="-108000" y="-84240"/>
            <a:ext cx="1403280" cy="685476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3" descr=""/>
          <p:cNvPicPr/>
          <p:nvPr/>
        </p:nvPicPr>
        <p:blipFill>
          <a:blip r:embed="rId3"/>
          <a:stretch/>
        </p:blipFill>
        <p:spPr>
          <a:xfrm>
            <a:off x="179280" y="23976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683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619280" y="204840"/>
            <a:ext cx="70563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6"/>
          <p:cNvSpPr/>
          <p:nvPr/>
        </p:nvSpPr>
        <p:spPr>
          <a:xfrm>
            <a:off x="701640" y="254160"/>
            <a:ext cx="837108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Рекомендации к недельному двигательному режиму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701640" y="911160"/>
          <a:ext cx="8193240" cy="5224680"/>
        </p:xfrm>
        <a:graphic>
          <a:graphicData uri="http://schemas.openxmlformats.org/drawingml/2006/table">
            <a:tbl>
              <a:tblPr/>
              <a:tblGrid>
                <a:gridCol w="600120"/>
                <a:gridCol w="7593120"/>
              </a:tblGrid>
              <a:tr h="652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№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п/п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Виды двигательной деятельност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1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тренняя гимнастик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2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2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бязательные учебные занятия в образовательных организациях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7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3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иды двигательной деятельности в процессе учебного дня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3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4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рганизованные занятия в спортивных секциях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и кружках по легкой атлетике, плаванию, лыжам, полиатлону, гимнастике, спортивным играм, фитнесу, единоборствам, туризму, в группах общей  физической  подготовки, участие в спортивных соревнованиях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5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Самостоятельные занятия физической культурой, в том числе подвижными и спортивными играми, другими видами двигательной деятельност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2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В каникулярное время ежедневный двигательный режим должен составлять не менее 3-4 часов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1" descr=""/>
          <p:cNvPicPr/>
          <p:nvPr/>
        </p:nvPicPr>
        <p:blipFill>
          <a:blip r:embed="rId1"/>
          <a:stretch/>
        </p:blipFill>
        <p:spPr>
          <a:xfrm>
            <a:off x="-1908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2" descr=""/>
          <p:cNvPicPr/>
          <p:nvPr/>
        </p:nvPicPr>
        <p:blipFill>
          <a:blip r:embed="rId2"/>
          <a:stretch/>
        </p:blipFill>
        <p:spPr>
          <a:xfrm>
            <a:off x="0" y="-84240"/>
            <a:ext cx="1403280" cy="685476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3" descr=""/>
          <p:cNvPicPr/>
          <p:nvPr/>
        </p:nvPicPr>
        <p:blipFill>
          <a:blip r:embed="rId3"/>
          <a:stretch/>
        </p:blipFill>
        <p:spPr>
          <a:xfrm>
            <a:off x="179280" y="23976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690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5"/>
          <p:cNvSpPr/>
          <p:nvPr/>
        </p:nvSpPr>
        <p:spPr>
          <a:xfrm>
            <a:off x="1619280" y="204840"/>
            <a:ext cx="70563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6"/>
          <p:cNvSpPr/>
          <p:nvPr/>
        </p:nvSpPr>
        <p:spPr>
          <a:xfrm>
            <a:off x="701640" y="254160"/>
            <a:ext cx="83710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Обязательно для образовательных организ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(письмо МОиН РТ от 26.08.2014 года №16756/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Оформлены информационные стен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Созданы тематические  разделы на сайтах образовательных организ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паганда внедрения комплекса ГТО осуществляется на массовых физкультурно-спортивных мероприятиях, родительских собраниях, совещаниях педагогических коллект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Тестирование начато с 20 сентября 201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1" descr=""/>
          <p:cNvPicPr/>
          <p:nvPr/>
        </p:nvPicPr>
        <p:blipFill>
          <a:blip r:embed="rId1"/>
          <a:stretch/>
        </p:blipFill>
        <p:spPr>
          <a:xfrm>
            <a:off x="-1908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2" descr=""/>
          <p:cNvPicPr/>
          <p:nvPr/>
        </p:nvPicPr>
        <p:blipFill>
          <a:blip r:embed="rId2"/>
          <a:stretch/>
        </p:blipFill>
        <p:spPr>
          <a:xfrm>
            <a:off x="0" y="-84240"/>
            <a:ext cx="1403280" cy="68547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3" descr=""/>
          <p:cNvPicPr/>
          <p:nvPr/>
        </p:nvPicPr>
        <p:blipFill>
          <a:blip r:embed="rId3"/>
          <a:stretch/>
        </p:blipFill>
        <p:spPr>
          <a:xfrm>
            <a:off x="179280" y="23976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696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1619280" y="204840"/>
            <a:ext cx="70563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6"/>
          <p:cNvSpPr/>
          <p:nvPr/>
        </p:nvSpPr>
        <p:spPr>
          <a:xfrm>
            <a:off x="701640" y="254160"/>
            <a:ext cx="837108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Рекомендации для проведения тест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Сдача нормативов разделена на три сессии: осенняя, зимняя, весення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 Созданы базовые площадки для сдачи нормативов  по территориальному принципу с соответствующей материальной базой и спортивно-оздоровительной инфраструкту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Сдача нормативов рекомендована на муниципальных спортивно-оздоровительных объек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1" descr=""/>
          <p:cNvPicPr/>
          <p:nvPr/>
        </p:nvPicPr>
        <p:blipFill>
          <a:blip r:embed="rId1"/>
          <a:stretch/>
        </p:blipFill>
        <p:spPr>
          <a:xfrm>
            <a:off x="-1908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2" descr=""/>
          <p:cNvPicPr/>
          <p:nvPr/>
        </p:nvPicPr>
        <p:blipFill>
          <a:blip r:embed="rId2"/>
          <a:stretch/>
        </p:blipFill>
        <p:spPr>
          <a:xfrm>
            <a:off x="0" y="-84240"/>
            <a:ext cx="1403280" cy="68547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3" descr=""/>
          <p:cNvPicPr/>
          <p:nvPr/>
        </p:nvPicPr>
        <p:blipFill>
          <a:blip r:embed="rId3"/>
          <a:stretch/>
        </p:blipFill>
        <p:spPr>
          <a:xfrm>
            <a:off x="179280" y="23976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702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Microsoft YaHei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5"/>
          <p:cNvSpPr/>
          <p:nvPr/>
        </p:nvSpPr>
        <p:spPr>
          <a:xfrm>
            <a:off x="1619280" y="204840"/>
            <a:ext cx="70563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6"/>
          <p:cNvSpPr/>
          <p:nvPr/>
        </p:nvSpPr>
        <p:spPr>
          <a:xfrm>
            <a:off x="701640" y="254160"/>
            <a:ext cx="837108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228b"/>
                </a:solidFill>
                <a:latin typeface="Calibri"/>
                <a:ea typeface="Microsoft YaHei"/>
              </a:rPr>
              <a:t>  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Microsoft YaHei"/>
              </a:rPr>
              <a:t>Этапы внедрения и апроб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Microsoft YaHei"/>
              </a:rPr>
              <a:t>Всероссийского физкультурно-спортивного компле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Microsoft YaHei"/>
              </a:rPr>
              <a:t>«Готов к труду и обороне» (ГТО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Arial"/>
                <a:ea typeface="Microsoft YaHei"/>
              </a:rPr>
              <a:t>в образовательных организац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509760" y="1700280"/>
          <a:ext cx="8310240" cy="4784760"/>
        </p:xfrm>
        <a:graphic>
          <a:graphicData uri="http://schemas.openxmlformats.org/drawingml/2006/table">
            <a:tbl>
              <a:tblPr/>
              <a:tblGrid>
                <a:gridCol w="2982600"/>
                <a:gridCol w="5327640"/>
              </a:tblGrid>
              <a:tr h="1096200">
                <a:tc>
                  <a:txBody>
                    <a:bodyPr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Сентябрь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 </a:t>
                      </a: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Система мероприятий, направленных на продвижение и пропаганду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Комплекса ГТО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762120">
                <a:tc>
                  <a:txBody>
                    <a:bodyPr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Октябрь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Осенняя сессия сдачи нормативов Комплекса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1402200">
                <a:tc>
                  <a:txBody>
                    <a:bodyPr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Ноябрь-декабрь, март 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Проведение массовых физкультурно-спортивных мероприятий с обучающимися, направленных на продвижение и пропаганду Комплекса ГТО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762120">
                <a:tc>
                  <a:txBody>
                    <a:bodyPr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Январь-февраль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 </a:t>
                      </a: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Зимняя сессия сдачи нормативов Комплекс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762120">
                <a:tc>
                  <a:txBody>
                    <a:bodyPr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Апрель-ма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 </a:t>
                      </a: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Весенняя сессия сдачи нормативов Комплекс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1" descr=""/>
          <p:cNvPicPr/>
          <p:nvPr/>
        </p:nvPicPr>
        <p:blipFill>
          <a:blip r:embed="rId1"/>
          <a:stretch/>
        </p:blipFill>
        <p:spPr>
          <a:xfrm>
            <a:off x="-1908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2" descr=""/>
          <p:cNvPicPr/>
          <p:nvPr/>
        </p:nvPicPr>
        <p:blipFill>
          <a:blip r:embed="rId2"/>
          <a:stretch/>
        </p:blipFill>
        <p:spPr>
          <a:xfrm>
            <a:off x="0" y="-84240"/>
            <a:ext cx="1403280" cy="68547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3" descr=""/>
          <p:cNvPicPr/>
          <p:nvPr/>
        </p:nvPicPr>
        <p:blipFill>
          <a:blip r:embed="rId3"/>
          <a:stretch/>
        </p:blipFill>
        <p:spPr>
          <a:xfrm>
            <a:off x="179280" y="23976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709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Microsoft YaHei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5"/>
          <p:cNvSpPr/>
          <p:nvPr/>
        </p:nvSpPr>
        <p:spPr>
          <a:xfrm>
            <a:off x="1619280" y="204840"/>
            <a:ext cx="70563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6"/>
          <p:cNvSpPr/>
          <p:nvPr/>
        </p:nvSpPr>
        <p:spPr>
          <a:xfrm>
            <a:off x="701640" y="254160"/>
            <a:ext cx="83710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8b"/>
                </a:solidFill>
                <a:latin typeface="Arial"/>
                <a:ea typeface="Microsoft YaHei"/>
              </a:rPr>
              <a:t>  </a:t>
            </a:r>
            <a:r>
              <a:rPr b="1" lang="ru-RU" sz="2800" spc="-1" strike="noStrike">
                <a:solidFill>
                  <a:srgbClr val="22228b"/>
                </a:solidFill>
                <a:latin typeface="Arial"/>
                <a:ea typeface="Microsoft YaHei"/>
              </a:rPr>
              <a:t>Спортивно-оздоровительные проекты, направленные на продвижение Всероссийского физкультурно-спортивного комплекса «Готов к труду и оборон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Microsoft YaHe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1. Региональный этап Всероссийских спортивных соревнований школьников «Президентские состяз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2.     Региональный этап Всероссийских спортивных  игр школьников «Президентские спортивные игр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3. Региональный этап Чемпионата Школьной баскетбольной лиги «КЭС-БАСКЕТ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4.    Республиканские соревнования среди  молодежи допризывного возраста «К защите Родины готов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Спартакиада среди профессиональных образовательных организ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Microsoft YaHe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1" descr=""/>
          <p:cNvPicPr/>
          <p:nvPr/>
        </p:nvPicPr>
        <p:blipFill>
          <a:blip r:embed="rId1"/>
          <a:stretch/>
        </p:blipFill>
        <p:spPr>
          <a:xfrm>
            <a:off x="-1908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2" descr=""/>
          <p:cNvPicPr/>
          <p:nvPr/>
        </p:nvPicPr>
        <p:blipFill>
          <a:blip r:embed="rId2"/>
          <a:stretch/>
        </p:blipFill>
        <p:spPr>
          <a:xfrm>
            <a:off x="0" y="-84240"/>
            <a:ext cx="1403280" cy="685476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3" descr=""/>
          <p:cNvPicPr/>
          <p:nvPr/>
        </p:nvPicPr>
        <p:blipFill>
          <a:blip r:embed="rId3"/>
          <a:stretch/>
        </p:blipFill>
        <p:spPr>
          <a:xfrm>
            <a:off x="179280" y="23976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715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Microsoft YaHei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1619280" y="204840"/>
            <a:ext cx="70563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701640" y="254160"/>
            <a:ext cx="8371080" cy="74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8b"/>
                </a:solidFill>
                <a:latin typeface="Arial"/>
                <a:ea typeface="Microsoft YaHei"/>
              </a:rPr>
              <a:t>  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Microsoft YaHei"/>
              </a:rPr>
              <a:t>Методическое сопровождение поэтапного внедр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Microsoft YaHei"/>
              </a:rPr>
              <a:t>и апробации ВФСК ГТО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Microsoft YaHei"/>
              </a:rPr>
              <a:t>ГАОУ ДПО «Институт развития образ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Microsoft YaHei"/>
              </a:rPr>
              <a:t>Республики Татарстан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проектный офис по внедрению ВФСК ГТО, г. Казань, ул. Б. Красная, 6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Руководитель проектного офиса -   Сафин Алексей Алексеевич, тел. 238-68-11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эл.почта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metodiro@mail.ru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- разработка методических рекомендаций для органов   управления в сфере образования, образовательных организ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организация и проведение зональных обучающих семинаров для специалистов муниципальных органов управления образованием, руководителей РМО учителей физической культуры, заместителей руководителя  по ВР, классных руков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организация и проведение курсов повышения квалификации для учителей физическ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Microsoft YaHe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1" descr=""/>
          <p:cNvPicPr/>
          <p:nvPr/>
        </p:nvPicPr>
        <p:blipFill>
          <a:blip r:embed="rId1"/>
          <a:stretch/>
        </p:blipFill>
        <p:spPr>
          <a:xfrm>
            <a:off x="-1908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2" descr=""/>
          <p:cNvPicPr/>
          <p:nvPr/>
        </p:nvPicPr>
        <p:blipFill>
          <a:blip r:embed="rId2"/>
          <a:stretch/>
        </p:blipFill>
        <p:spPr>
          <a:xfrm>
            <a:off x="120600" y="-20520"/>
            <a:ext cx="1403280" cy="685476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3" descr=""/>
          <p:cNvPicPr/>
          <p:nvPr/>
        </p:nvPicPr>
        <p:blipFill>
          <a:blip r:embed="rId3"/>
          <a:stretch/>
        </p:blipFill>
        <p:spPr>
          <a:xfrm>
            <a:off x="179280" y="23976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721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Microsoft YaHei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5"/>
          <p:cNvSpPr/>
          <p:nvPr/>
        </p:nvSpPr>
        <p:spPr>
          <a:xfrm>
            <a:off x="1619280" y="204840"/>
            <a:ext cx="70563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6"/>
          <p:cNvSpPr/>
          <p:nvPr/>
        </p:nvSpPr>
        <p:spPr>
          <a:xfrm>
            <a:off x="701640" y="254160"/>
            <a:ext cx="837108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Microsoft YaHei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Microsoft YaHe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Microsoft YaHei"/>
              </a:rPr>
              <a:t>«Воспитание, дополнительное образование детей/Здоровьесберегающее и физкультурно-спортивное направление/Апробация Всероссийского физкультурно-спортивного компл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Microsoft YaHei"/>
              </a:rPr>
              <a:t>«Готов к труду и обороне» (ГТ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Microsoft YaHe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1" descr=""/>
          <p:cNvPicPr/>
          <p:nvPr/>
        </p:nvPicPr>
        <p:blipFill>
          <a:blip r:embed="rId1"/>
          <a:stretch/>
        </p:blipFill>
        <p:spPr>
          <a:xfrm>
            <a:off x="-1908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2" descr=""/>
          <p:cNvPicPr/>
          <p:nvPr/>
        </p:nvPicPr>
        <p:blipFill>
          <a:blip r:embed="rId2"/>
          <a:stretch/>
        </p:blipFill>
        <p:spPr>
          <a:xfrm>
            <a:off x="120600" y="-20520"/>
            <a:ext cx="1403280" cy="685476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3" descr=""/>
          <p:cNvPicPr/>
          <p:nvPr/>
        </p:nvPicPr>
        <p:blipFill>
          <a:blip r:embed="rId3"/>
          <a:stretch/>
        </p:blipFill>
        <p:spPr>
          <a:xfrm>
            <a:off x="179280" y="23976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727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5"/>
          <p:cNvSpPr/>
          <p:nvPr/>
        </p:nvSpPr>
        <p:spPr>
          <a:xfrm>
            <a:off x="787320" y="204840"/>
            <a:ext cx="78375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Tahoma"/>
              </a:rPr>
              <a:t>Всероссийский физкультурно-спорт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Tahoma"/>
              </a:rPr>
              <a:t>комплекс «Готов к труду и обороне» (ГТ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773280" y="1197000"/>
            <a:ext cx="8370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ahoma"/>
                <a:ea typeface="Tahoma"/>
              </a:rPr>
              <a:t>Еженедельно – четверг 12.00 час.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предоставление планов мероприятий по продвижению Комплекса (в МОиН РТ) на следующую недел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Ежемесячн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о 5 числа направлять в РЦВР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rcvr</a:t>
            </a: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2014@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mail</a:t>
            </a: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ru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Письмо МОиН РТ №19556/14 от 13.10.2014 г.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ормацию 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ahoma"/>
              </a:rPr>
              <a:t>количестве школ и обучающихся основной группы по физической культуре, приступивших к сдаче норматив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ahoma"/>
              </a:rPr>
              <a:t>количестве обучающихся, успешно сдавших норматив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ahoma"/>
              </a:rPr>
              <a:t>сдаче осенней сессии (по видам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ahoma"/>
              </a:rPr>
              <a:t>проведенных мероприятиях по продвижению комплек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0" y="-34920"/>
            <a:ext cx="1401840" cy="685800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 txBox="1"/>
          <p:nvPr/>
        </p:nvSpPr>
        <p:spPr>
          <a:xfrm>
            <a:off x="154080" y="1047600"/>
            <a:ext cx="903600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ahoma"/>
              </a:rPr>
              <a:t>Статья 41. Охрана здоровья обучающихся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ahoma"/>
              </a:rPr>
              <a:t>Статья 42. Психолого-педагогическая, медицинская и социальная помощь обучающимся, испытывающим трудности в освоении основных общеобразовательных программ, развитии и социальной адаптации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ahoma"/>
              </a:rPr>
              <a:t>Статья 37. Организация питания обучающихся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ahoma"/>
              </a:rPr>
              <a:t>Статья 84. Особенности реализации образовательных программ в области физической культуры и спорта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4292-2E9B-4F7B-8980-D06F653D9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ФЗ от 29.12.2012 года №273-ФЗ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«Об образовании в Российской Федерации»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CD85-3D93-440A-AE5B-AB06AB05B84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F4D2-EB6A-4D39-B4F4-91011B2C9ED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3" descr=""/>
          <p:cNvPicPr/>
          <p:nvPr/>
        </p:nvPicPr>
        <p:blipFill>
          <a:blip r:embed="rId2"/>
          <a:stretch/>
        </p:blipFill>
        <p:spPr>
          <a:xfrm>
            <a:off x="700200" y="6423120"/>
            <a:ext cx="851040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ониторинг участия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общеобразовательных учреждени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Чемпионате Школьной баскетбольной лиги</a:t>
            </a: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A7C9-25A8-4256-8F7F-FDFD966FCEA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13" descr=""/>
          <p:cNvPicPr/>
          <p:nvPr/>
        </p:nvPicPr>
        <p:blipFill>
          <a:blip r:embed="rId1"/>
          <a:srcRect l="0" t="26802" r="0" b="5360"/>
          <a:stretch/>
        </p:blipFill>
        <p:spPr>
          <a:xfrm>
            <a:off x="0" y="6080040"/>
            <a:ext cx="9144000" cy="754200"/>
          </a:xfrm>
          <a:prstGeom prst="rect">
            <a:avLst/>
          </a:prstGeom>
          <a:ln w="9360">
            <a:solidFill>
              <a:srgbClr val="002d6e"/>
            </a:solidFill>
            <a:miter/>
          </a:ln>
        </p:spPr>
      </p:pic>
      <p:graphicFrame>
        <p:nvGraphicFramePr>
          <p:cNvPr id="733" name=""/>
          <p:cNvGraphicFramePr/>
          <p:nvPr/>
        </p:nvGraphicFramePr>
        <p:xfrm>
          <a:off x="179280" y="1268280"/>
          <a:ext cx="8856720" cy="4989600"/>
        </p:xfrm>
        <a:graphic>
          <a:graphicData uri="http://schemas.openxmlformats.org/drawingml/2006/table">
            <a:tbl>
              <a:tblPr/>
              <a:tblGrid>
                <a:gridCol w="3660840"/>
                <a:gridCol w="1243080"/>
                <a:gridCol w="1317600"/>
                <a:gridCol w="1317600"/>
                <a:gridCol w="1317600"/>
              </a:tblGrid>
              <a:tr h="110412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-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-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-2013 учебный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-2014 учебный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96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школ-участниц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команд- участни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участ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3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7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ты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авленных комплектов спортивной фор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08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авленных мяч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46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272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4" name="Picture 1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280836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18E0-0978-49BF-88DA-4183D84E5FA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3" descr=""/>
          <p:cNvPicPr/>
          <p:nvPr/>
        </p:nvPicPr>
        <p:blipFill>
          <a:blip r:embed="rId1"/>
          <a:stretch/>
        </p:blipFill>
        <p:spPr>
          <a:xfrm>
            <a:off x="4859280" y="0"/>
            <a:ext cx="4284720" cy="292428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4859280" cy="292428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6" descr=""/>
          <p:cNvPicPr/>
          <p:nvPr/>
        </p:nvPicPr>
        <p:blipFill>
          <a:blip r:embed="rId3"/>
          <a:stretch/>
        </p:blipFill>
        <p:spPr>
          <a:xfrm>
            <a:off x="4876920" y="2924280"/>
            <a:ext cx="4249440" cy="393372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2" descr=""/>
          <p:cNvPicPr/>
          <p:nvPr/>
        </p:nvPicPr>
        <p:blipFill>
          <a:blip r:embed="rId4"/>
          <a:stretch/>
        </p:blipFill>
        <p:spPr>
          <a:xfrm>
            <a:off x="0" y="2924280"/>
            <a:ext cx="48769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1" descr=""/>
          <p:cNvPicPr/>
          <p:nvPr/>
        </p:nvPicPr>
        <p:blipFill>
          <a:blip r:embed="rId1"/>
          <a:stretch/>
        </p:blipFill>
        <p:spPr>
          <a:xfrm>
            <a:off x="-1908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" descr=""/>
          <p:cNvPicPr/>
          <p:nvPr/>
        </p:nvPicPr>
        <p:blipFill>
          <a:blip r:embed="rId2"/>
          <a:stretch/>
        </p:blipFill>
        <p:spPr>
          <a:xfrm>
            <a:off x="120600" y="-20520"/>
            <a:ext cx="1403280" cy="68547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3" descr=""/>
          <p:cNvPicPr/>
          <p:nvPr/>
        </p:nvPicPr>
        <p:blipFill>
          <a:blip r:embed="rId3"/>
          <a:stretch/>
        </p:blipFill>
        <p:spPr>
          <a:xfrm>
            <a:off x="179280" y="23976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5"/>
          <p:cNvSpPr/>
          <p:nvPr/>
        </p:nvSpPr>
        <p:spPr>
          <a:xfrm>
            <a:off x="179280" y="239760"/>
            <a:ext cx="88934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ahoma"/>
                <a:ea typeface="Tahoma"/>
              </a:rPr>
              <a:t>  </a:t>
            </a:r>
            <a:r>
              <a:rPr b="1" lang="ru-RU" sz="2000" spc="-1" strike="noStrike">
                <a:solidFill>
                  <a:srgbClr val="1f497d"/>
                </a:solidFill>
                <a:latin typeface="Tahoma"/>
                <a:ea typeface="Tahoma"/>
              </a:rPr>
              <a:t>Доля общеобразовательных организац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ahoma"/>
                <a:ea typeface="Tahoma"/>
              </a:rPr>
              <a:t>участвующих в проекте «Школьная баскетбольная ли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ahoma"/>
                <a:ea typeface="Tahoma"/>
              </a:rPr>
              <a:t>«КЭС-БАСК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6"/>
          <p:cNvSpPr/>
          <p:nvPr/>
        </p:nvSpPr>
        <p:spPr>
          <a:xfrm>
            <a:off x="773280" y="1197000"/>
            <a:ext cx="8370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Диаграмма 7" descr=""/>
          <p:cNvPicPr/>
          <p:nvPr/>
        </p:nvPicPr>
        <p:blipFill>
          <a:blip r:embed="rId4"/>
          <a:stretch/>
        </p:blipFill>
        <p:spPr>
          <a:xfrm>
            <a:off x="-19080" y="1335240"/>
            <a:ext cx="9163080" cy="5065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ероссийские спортивные соревнования школьников «Президентские состязания» и «Президентские спортивные игры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5D6E-5D11-49B7-A4AC-D062DFD9C4A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13" descr=""/>
          <p:cNvPicPr/>
          <p:nvPr/>
        </p:nvPicPr>
        <p:blipFill>
          <a:blip r:embed="rId1"/>
          <a:srcRect l="0" t="26802" r="0" b="5360"/>
          <a:stretch/>
        </p:blipFill>
        <p:spPr>
          <a:xfrm>
            <a:off x="-1440" y="6130800"/>
            <a:ext cx="9144000" cy="754200"/>
          </a:xfrm>
          <a:prstGeom prst="rect">
            <a:avLst/>
          </a:prstGeom>
          <a:ln w="9360">
            <a:solidFill>
              <a:srgbClr val="002d6e"/>
            </a:solidFill>
            <a:miter/>
          </a:ln>
        </p:spPr>
      </p:pic>
      <p:graphicFrame>
        <p:nvGraphicFramePr>
          <p:cNvPr id="750" name=""/>
          <p:cNvGraphicFramePr/>
          <p:nvPr/>
        </p:nvGraphicFramePr>
        <p:xfrm>
          <a:off x="0" y="1413000"/>
          <a:ext cx="9142560" cy="3413160"/>
        </p:xfrm>
        <a:graphic>
          <a:graphicData uri="http://schemas.openxmlformats.org/drawingml/2006/table">
            <a:tbl>
              <a:tblPr/>
              <a:tblGrid>
                <a:gridCol w="1649520"/>
                <a:gridCol w="1376280"/>
                <a:gridCol w="1222200"/>
                <a:gridCol w="1116000"/>
                <a:gridCol w="1152720"/>
                <a:gridCol w="1352520"/>
                <a:gridCol w="1273320"/>
              </a:tblGrid>
              <a:tr h="7318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общеобразовательных учреж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уча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-2012 учебный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-20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ый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-20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ый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-2012 учебный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-20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ый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-20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ый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езидентские состязан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 8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6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 5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 1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6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38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9,8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94,6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74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езидентские спортивные игры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6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9 (100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 5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7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 8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0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 29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93,3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51" name="Picture 2" descr="C:\Users\Соркина\Desktop\Президентские  игры2014\Финал ПИ\ФОТО\P1000591JPG.jpg"/>
          <p:cNvPicPr/>
          <p:nvPr/>
        </p:nvPicPr>
        <p:blipFill>
          <a:blip r:embed="rId2"/>
          <a:stretch/>
        </p:blipFill>
        <p:spPr>
          <a:xfrm>
            <a:off x="-108000" y="4724280"/>
            <a:ext cx="3095640" cy="140652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3" descr="C:\Users\Соркина\Desktop\Президентские  игры2014\Финал ПИ\ФОТО\P1000565JPG.jpg"/>
          <p:cNvPicPr/>
          <p:nvPr/>
        </p:nvPicPr>
        <p:blipFill>
          <a:blip r:embed="rId3"/>
          <a:stretch/>
        </p:blipFill>
        <p:spPr>
          <a:xfrm>
            <a:off x="2987640" y="4653000"/>
            <a:ext cx="2232000" cy="147780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4" descr="C:\Users\Соркина\Desktop\Президентские  игры2014\Финал ПС\ИТОГИ на сайт\IMG_3020.JPG"/>
          <p:cNvPicPr/>
          <p:nvPr/>
        </p:nvPicPr>
        <p:blipFill>
          <a:blip r:embed="rId4"/>
          <a:stretch/>
        </p:blipFill>
        <p:spPr>
          <a:xfrm>
            <a:off x="5148360" y="4724280"/>
            <a:ext cx="2303280" cy="14065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5" descr="C:\Users\Соркина\Desktop\Президентские  игры2014\Финал ПС\ИТОГИ на сайт\IMG_2535.JPG"/>
          <p:cNvPicPr/>
          <p:nvPr/>
        </p:nvPicPr>
        <p:blipFill>
          <a:blip r:embed="rId5"/>
          <a:stretch/>
        </p:blipFill>
        <p:spPr>
          <a:xfrm>
            <a:off x="7380360" y="4797360"/>
            <a:ext cx="1763640" cy="13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ahoma"/>
              </a:rPr>
              <a:t>Финал «Президентских состязаний» и «Президентских спортивных игр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95280" y="1449000"/>
            <a:ext cx="31687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МБОУ «Лицей№2»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(г. Бугульма) </a:t>
            </a:r>
            <a:r>
              <a:rPr b="1" lang="ru-RU" sz="14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ahoma"/>
              </a:rPr>
              <a:t>2 место «Творческий конкурс» («Президентские состязания»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МБОУ «Большенырсинкая СОШ» (Тюлячинский муниципальный район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ahoma"/>
              </a:rPr>
              <a:t>3 место – «Теоретический конкурс»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ahoma"/>
              </a:rPr>
              <a:t>(«Президентские состязания»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МБОУ «СОШ №177 с углубленным изучением отдельных предметов» (г. Казань)</a:t>
            </a:r>
            <a:r>
              <a:rPr b="1" lang="ru-RU" sz="1400" spc="-1" strike="noStrike">
                <a:solidFill>
                  <a:srgbClr val="0070c0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ahoma"/>
              </a:rPr>
              <a:t>2 место «Пулевая стрельба»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ahoma"/>
              </a:rPr>
              <a:t>(«Президентские спортивные игры»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9A91-541A-4319-B651-504863316EB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2" descr="C:\Users\Соркина\Desktop\Президентские  игры2014\РФ ПИ\ИТОГИ\IMG_20140922_164458.jpg"/>
          <p:cNvPicPr/>
          <p:nvPr/>
        </p:nvPicPr>
        <p:blipFill>
          <a:blip r:embed="rId2"/>
          <a:stretch/>
        </p:blipFill>
        <p:spPr>
          <a:xfrm>
            <a:off x="3757680" y="4292640"/>
            <a:ext cx="4751280" cy="185256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3" descr="C:\Users\BA79~1\AppData\Local\Temp\Rar$DI00.672\DSC04186.JPG"/>
          <p:cNvPicPr/>
          <p:nvPr/>
        </p:nvPicPr>
        <p:blipFill>
          <a:blip r:embed="rId3"/>
          <a:stretch/>
        </p:blipFill>
        <p:spPr>
          <a:xfrm>
            <a:off x="3708360" y="333360"/>
            <a:ext cx="4896000" cy="223200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4" descr="C:\Users\BA79~1\AppData\Local\Temp\Rar$DI02.515\yTjdsph59iI.jpg"/>
          <p:cNvPicPr/>
          <p:nvPr/>
        </p:nvPicPr>
        <p:blipFill>
          <a:blip r:embed="rId4"/>
          <a:stretch/>
        </p:blipFill>
        <p:spPr>
          <a:xfrm>
            <a:off x="3635280" y="2552760"/>
            <a:ext cx="4969080" cy="1871640"/>
          </a:xfrm>
          <a:prstGeom prst="rect">
            <a:avLst/>
          </a:prstGeom>
          <a:ln w="0">
            <a:noFill/>
          </a:ln>
        </p:spPr>
      </p:pic>
      <p:sp>
        <p:nvSpPr>
          <p:cNvPr id="762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Итоги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 школьной Спартакиады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(среди общеобразовательных организаций  сельских районов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CB2E-0C1F-404B-A0BF-D9275C64A4B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Диаграмма 7" descr=""/>
          <p:cNvPicPr/>
          <p:nvPr/>
        </p:nvPicPr>
        <p:blipFill>
          <a:blip r:embed="rId1"/>
          <a:stretch/>
        </p:blipFill>
        <p:spPr>
          <a:xfrm>
            <a:off x="200160" y="1549440"/>
            <a:ext cx="88153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ahoma"/>
              </a:rPr>
              <a:t>Итоги </a:t>
            </a:r>
            <a:r>
              <a:rPr b="1" lang="en-US" sz="2800" spc="-1" strike="noStrike">
                <a:solidFill>
                  <a:srgbClr val="0070c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70c0"/>
                </a:solidFill>
                <a:latin typeface="Tahoma"/>
              </a:rPr>
              <a:t> школьной Спартакиады 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Tahoma"/>
              </a:rPr>
              <a:t>(среди общеобразовательных организаций городо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A9F5-73F9-43FB-A2A4-FFEC3FA10AB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Диаграмма 7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  <p:sp>
        <p:nvSpPr>
          <p:cNvPr id="769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1" descr=""/>
          <p:cNvPicPr/>
          <p:nvPr/>
        </p:nvPicPr>
        <p:blipFill>
          <a:blip r:embed="rId1"/>
          <a:stretch/>
        </p:blipFill>
        <p:spPr>
          <a:xfrm>
            <a:off x="-1908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2" descr=""/>
          <p:cNvPicPr/>
          <p:nvPr/>
        </p:nvPicPr>
        <p:blipFill>
          <a:blip r:embed="rId2"/>
          <a:stretch/>
        </p:blipFill>
        <p:spPr>
          <a:xfrm>
            <a:off x="120600" y="-20520"/>
            <a:ext cx="1403280" cy="685476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3" descr=""/>
          <p:cNvPicPr/>
          <p:nvPr/>
        </p:nvPicPr>
        <p:blipFill>
          <a:blip r:embed="rId3"/>
          <a:stretch/>
        </p:blipFill>
        <p:spPr>
          <a:xfrm>
            <a:off x="179280" y="23976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773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5"/>
          <p:cNvSpPr/>
          <p:nvPr/>
        </p:nvSpPr>
        <p:spPr>
          <a:xfrm>
            <a:off x="798480" y="0"/>
            <a:ext cx="783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Tahoma"/>
              </a:rPr>
              <a:t>Школьные спортивные клу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6"/>
          <p:cNvSpPr/>
          <p:nvPr/>
        </p:nvSpPr>
        <p:spPr>
          <a:xfrm>
            <a:off x="811080" y="620640"/>
            <a:ext cx="810756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ные направления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  развитие видов спорта в общеобразовательных организациях (бадминтон, национальная борьба, волейбол, баскетбол, мини-футбо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 спортивно-массовой работы в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 начало 2014 -2015 учебного года действует  147 школьных спортивных клуб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 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9 - структурные подразделения общеобразовательных 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8 – общественные объед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убы действуют  на основании положений, утвержденных руководителями общеобразовательных организац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ие и деятельность школьных спортивных клубов  - один из показателей при распределении субсидий из федерального бюджета бюджетам субъектов Российской Федерации на развитие спортивно-оздоровительной инфраструк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ahoma"/>
                <a:ea typeface="Tahoma"/>
              </a:rPr>
              <a:t>Не открыты школьные спортивные клу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в Бавлинском и Нурлатском  муниципальных районах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2" descr=""/>
          <p:cNvPicPr/>
          <p:nvPr/>
        </p:nvPicPr>
        <p:blipFill>
          <a:blip r:embed="rId5"/>
          <a:stretch/>
        </p:blipFill>
        <p:spPr>
          <a:xfrm>
            <a:off x="272880" y="131760"/>
            <a:ext cx="262080" cy="6854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376092"/>
                </a:solidFill>
                <a:latin typeface="Tahoma"/>
              </a:rPr>
              <a:t>Динамика результативности участия  </a:t>
            </a:r>
            <a:br>
              <a:rPr sz="2000"/>
            </a:br>
            <a:r>
              <a:rPr b="1" lang="en-US" sz="2000" spc="-1" strike="noStrike">
                <a:solidFill>
                  <a:srgbClr val="376092"/>
                </a:solidFill>
                <a:latin typeface="Tahoma"/>
              </a:rPr>
              <a:t>во Всероссийской акции </a:t>
            </a:r>
            <a:br>
              <a:rPr sz="2000"/>
            </a:br>
            <a:r>
              <a:rPr b="1" lang="en-US" sz="2000" spc="-1" strike="noStrike">
                <a:solidFill>
                  <a:srgbClr val="376092"/>
                </a:solidFill>
                <a:latin typeface="Tahoma"/>
              </a:rPr>
              <a:t>"Спорт - альтернатива пагубным привычкам"</a:t>
            </a:r>
            <a:br>
              <a:rPr sz="2000"/>
            </a:br>
            <a:r>
              <a:rPr b="1" lang="en-US" sz="2000" spc="-1" strike="noStrike">
                <a:solidFill>
                  <a:srgbClr val="376092"/>
                </a:solidFill>
                <a:latin typeface="Tahom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611280" y="1484280"/>
          <a:ext cx="8208720" cy="946080"/>
        </p:xfrm>
        <a:graphic>
          <a:graphicData uri="http://schemas.openxmlformats.org/drawingml/2006/table">
            <a:tbl>
              <a:tblPr/>
              <a:tblGrid>
                <a:gridCol w="1817640"/>
                <a:gridCol w="1278000"/>
                <a:gridCol w="1279440"/>
                <a:gridCol w="1278000"/>
                <a:gridCol w="1278000"/>
                <a:gridCol w="1277640"/>
              </a:tblGrid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09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10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1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12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личество побед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51FF-0A77-496F-998A-CA2DD0B8307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13" descr=""/>
          <p:cNvPicPr/>
          <p:nvPr/>
        </p:nvPicPr>
        <p:blipFill>
          <a:blip r:embed="rId1"/>
          <a:srcRect l="0" t="26802" r="0" b="5360"/>
          <a:stretch/>
        </p:blipFill>
        <p:spPr>
          <a:xfrm>
            <a:off x="11160" y="6021360"/>
            <a:ext cx="9144000" cy="836640"/>
          </a:xfrm>
          <a:prstGeom prst="rect">
            <a:avLst/>
          </a:prstGeom>
          <a:ln w="9360">
            <a:solidFill>
              <a:srgbClr val="002d6e"/>
            </a:solidFill>
            <a:miter/>
          </a:ln>
        </p:spPr>
      </p:pic>
      <p:sp>
        <p:nvSpPr>
          <p:cNvPr id="783" name="Прямоугольник 6"/>
          <p:cNvSpPr/>
          <p:nvPr/>
        </p:nvSpPr>
        <p:spPr>
          <a:xfrm>
            <a:off x="214200" y="2481120"/>
            <a:ext cx="8929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еобразовательные  организации и учащиеся Республики Татарстан, победившие в 2013 году на Всероссийском этап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 МАОУ «Средняя общеобразовательная школа №56»  г. Набережные Чел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МБОУ ДОД «Детский (подростковый) центр «Молодость» Приволжского района г. Каза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Саженкова Мария, учащаяся МБОУ «Средняя общеобразовательная школа №156»  Советского района  г. Каз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Рейтинг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результативности участия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в спортивно-оздоровительных проектах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(2013-2014 учебный год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08F9-A6A8-4862-9287-5424C735703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Диаграмма 6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Рисунок 3" descr=""/>
          <p:cNvPicPr/>
          <p:nvPr/>
        </p:nvPicPr>
        <p:blipFill>
          <a:blip r:embed="rId1"/>
          <a:stretch/>
        </p:blipFill>
        <p:spPr>
          <a:xfrm>
            <a:off x="-36360" y="-6480"/>
            <a:ext cx="9173880" cy="688824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" descr="C:\Users\Afanaseva\Desktop\сам.png"/>
          <p:cNvPicPr/>
          <p:nvPr/>
        </p:nvPicPr>
        <p:blipFill>
          <a:blip r:embed="rId3"/>
          <a:stretch/>
        </p:blipFill>
        <p:spPr>
          <a:xfrm>
            <a:off x="201600" y="225360"/>
            <a:ext cx="946080" cy="858960"/>
          </a:xfrm>
          <a:prstGeom prst="rect">
            <a:avLst/>
          </a:prstGeom>
          <a:ln w="0">
            <a:noFill/>
          </a:ln>
        </p:spPr>
      </p:pic>
      <p:sp>
        <p:nvSpPr>
          <p:cNvPr id="563" name="Прямоугольник с двумя вырезанными противолежащими углами 1"/>
          <p:cNvSpPr/>
          <p:nvPr/>
        </p:nvSpPr>
        <p:spPr>
          <a:xfrm>
            <a:off x="701640" y="6405480"/>
            <a:ext cx="8371080" cy="3841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Заголовок 1"/>
          <p:cNvSpPr/>
          <p:nvPr/>
        </p:nvSpPr>
        <p:spPr>
          <a:xfrm>
            <a:off x="1332000" y="293760"/>
            <a:ext cx="78483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Tahoma"/>
              </a:rPr>
              <a:t>Первичная заболеваемость среди школьников по классам заболе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Tahoma"/>
              </a:rPr>
              <a:t>(на 1000 обучающих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Объект 2"/>
          <p:cNvSpPr/>
          <p:nvPr/>
        </p:nvSpPr>
        <p:spPr>
          <a:xfrm>
            <a:off x="900000" y="1604880"/>
            <a:ext cx="799308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1314360" y="1704960"/>
          <a:ext cx="7123320" cy="4346640"/>
        </p:xfrm>
        <a:graphic>
          <a:graphicData uri="http://schemas.openxmlformats.org/drawingml/2006/table">
            <a:tbl>
              <a:tblPr/>
              <a:tblGrid>
                <a:gridCol w="4376880"/>
                <a:gridCol w="1444680"/>
                <a:gridCol w="1301760"/>
              </a:tblGrid>
              <a:tr h="48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ассы заболев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6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олезни глаза и его придаточного аппар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олезни костно-мышечной сист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олезни органов пищева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олезни органов дых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08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щая распространен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 классам заболев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Рейтинг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результативности участия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в спортивно-оздоровительных проектах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( 1 группа 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5EF2-1845-41B7-914E-614A1CCE774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Диаграмма 6" descr=""/>
          <p:cNvPicPr/>
          <p:nvPr/>
        </p:nvPicPr>
        <p:blipFill>
          <a:blip r:embed="rId1"/>
          <a:stretch/>
        </p:blipFill>
        <p:spPr>
          <a:xfrm>
            <a:off x="272880" y="1506600"/>
            <a:ext cx="85982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000" spc="-1" strike="noStrike">
                <a:solidFill>
                  <a:srgbClr val="0070c0"/>
                </a:solidFill>
                <a:latin typeface="Tahoma"/>
              </a:rPr>
              <a:t>Рейтинг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ahoma"/>
              </a:rPr>
              <a:t>результативности участия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ahoma"/>
              </a:rPr>
              <a:t>в спортивно-оздоровительных проектах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ahoma"/>
              </a:rPr>
              <a:t>( 2 группа )</a:t>
            </a:r>
            <a:br>
              <a:rPr sz="20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7271-C56D-4202-920B-F94C760A13B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Диаграмма 6" descr=""/>
          <p:cNvPicPr/>
          <p:nvPr/>
        </p:nvPicPr>
        <p:blipFill>
          <a:blip r:embed="rId1"/>
          <a:stretch/>
        </p:blipFill>
        <p:spPr>
          <a:xfrm>
            <a:off x="1568520" y="1506600"/>
            <a:ext cx="6222960" cy="3486240"/>
          </a:xfrm>
          <a:prstGeom prst="rect">
            <a:avLst/>
          </a:prstGeom>
          <a:ln w="0">
            <a:noFill/>
          </a:ln>
        </p:spPr>
      </p:pic>
      <p:pic>
        <p:nvPicPr>
          <p:cNvPr id="793" name="Диаграмма 4" descr=""/>
          <p:cNvPicPr/>
          <p:nvPr/>
        </p:nvPicPr>
        <p:blipFill>
          <a:blip r:embed="rId2"/>
          <a:stretch/>
        </p:blipFill>
        <p:spPr>
          <a:xfrm>
            <a:off x="1136520" y="1649520"/>
            <a:ext cx="744696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000" spc="-1" strike="noStrike">
                <a:solidFill>
                  <a:srgbClr val="0070c0"/>
                </a:solidFill>
                <a:latin typeface="Tahoma"/>
              </a:rPr>
              <a:t>Рейтинг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ahoma"/>
              </a:rPr>
              <a:t>результативности участия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ahoma"/>
              </a:rPr>
              <a:t>в спортивно-оздоровительных проектах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ahoma"/>
              </a:rPr>
              <a:t>( 3 группа )</a:t>
            </a:r>
            <a:br>
              <a:rPr sz="20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BE21-6AFD-4743-8D7F-8801AA2FBDC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Диаграмма 6" descr=""/>
          <p:cNvPicPr/>
          <p:nvPr/>
        </p:nvPicPr>
        <p:blipFill>
          <a:blip r:embed="rId1"/>
          <a:stretch/>
        </p:blipFill>
        <p:spPr>
          <a:xfrm>
            <a:off x="417600" y="1506600"/>
            <a:ext cx="8237520" cy="3486240"/>
          </a:xfrm>
          <a:prstGeom prst="rect">
            <a:avLst/>
          </a:prstGeom>
          <a:ln w="0">
            <a:noFill/>
          </a:ln>
        </p:spPr>
      </p:pic>
      <p:pic>
        <p:nvPicPr>
          <p:cNvPr id="797" name="Диаграмма 5" descr=""/>
          <p:cNvPicPr/>
          <p:nvPr/>
        </p:nvPicPr>
        <p:blipFill>
          <a:blip r:embed="rId2"/>
          <a:stretch/>
        </p:blipFill>
        <p:spPr>
          <a:xfrm>
            <a:off x="2286000" y="2060640"/>
            <a:ext cx="6102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000" spc="-1" strike="noStrike">
                <a:solidFill>
                  <a:srgbClr val="0070c0"/>
                </a:solidFill>
                <a:latin typeface="Tahoma"/>
              </a:rPr>
              <a:t>Рейтинг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ahoma"/>
              </a:rPr>
              <a:t>результативности участия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ahoma"/>
              </a:rPr>
              <a:t>в спортивно-оздоровительных проектах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ahoma"/>
              </a:rPr>
              <a:t>(  4 группа )</a:t>
            </a:r>
            <a:br>
              <a:rPr sz="20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B49A-A505-46EA-840C-EDD11043D1F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Диаграмма 6" descr=""/>
          <p:cNvPicPr/>
          <p:nvPr/>
        </p:nvPicPr>
        <p:blipFill>
          <a:blip r:embed="rId1"/>
          <a:stretch/>
        </p:blipFill>
        <p:spPr>
          <a:xfrm>
            <a:off x="1568520" y="1506600"/>
            <a:ext cx="6222960" cy="3486240"/>
          </a:xfrm>
          <a:prstGeom prst="rect">
            <a:avLst/>
          </a:prstGeom>
          <a:ln w="0">
            <a:noFill/>
          </a:ln>
        </p:spPr>
      </p:pic>
      <p:pic>
        <p:nvPicPr>
          <p:cNvPr id="801" name="Диаграмма 5" descr=""/>
          <p:cNvPicPr/>
          <p:nvPr/>
        </p:nvPicPr>
        <p:blipFill>
          <a:blip r:embed="rId2"/>
          <a:stretch/>
        </p:blipFill>
        <p:spPr>
          <a:xfrm>
            <a:off x="849240" y="1506600"/>
            <a:ext cx="795024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Рисунок 3" descr=""/>
          <p:cNvPicPr/>
          <p:nvPr/>
        </p:nvPicPr>
        <p:blipFill>
          <a:blip r:embed="rId1"/>
          <a:stretch/>
        </p:blipFill>
        <p:spPr>
          <a:xfrm>
            <a:off x="30240" y="-85680"/>
            <a:ext cx="9174240" cy="6888240"/>
          </a:xfrm>
          <a:prstGeom prst="rect">
            <a:avLst/>
          </a:prstGeom>
          <a:ln w="0">
            <a:noFill/>
          </a:ln>
        </p:spPr>
      </p:pic>
      <p:pic>
        <p:nvPicPr>
          <p:cNvPr id="803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804" name="Прямоугольник с двумя вырезанными противолежащими углами 1"/>
          <p:cNvSpPr/>
          <p:nvPr/>
        </p:nvSpPr>
        <p:spPr>
          <a:xfrm>
            <a:off x="701640" y="6405480"/>
            <a:ext cx="8371080" cy="3841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Заголовок 1"/>
          <p:cNvSpPr/>
          <p:nvPr/>
        </p:nvSpPr>
        <p:spPr>
          <a:xfrm>
            <a:off x="1332000" y="609480"/>
            <a:ext cx="7848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4720" y="391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ahoma"/>
              </a:rPr>
              <a:t>Федеральный закон Российской Федерации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ahoma"/>
              </a:rPr>
              <a:t> от 29 декабря 2012 года № 273-ФЗ 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ahoma"/>
              </a:rPr>
              <a:t>«Об образовании в Российской Федерации»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701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.3 ст. 4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рганизацию оказания первичной медико-санитарной помощи обучающимся осуществляют органы исполнительной власти в сфере здравоохран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ahoma"/>
              </a:rPr>
              <a:t>Образовательная организация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обязана </a:t>
            </a:r>
            <a:r>
              <a:rPr b="1" lang="ru-RU" sz="2400" spc="-1" strike="noStrike">
                <a:solidFill>
                  <a:srgbClr val="1f497d"/>
                </a:solidFill>
                <a:latin typeface="Tahoma"/>
              </a:rPr>
              <a:t>предоставить помещение с соответствующими условиями для работы медицинских работник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Рисунок 3" descr=""/>
          <p:cNvPicPr/>
          <p:nvPr/>
        </p:nvPicPr>
        <p:blipFill>
          <a:blip r:embed="rId1"/>
          <a:stretch/>
        </p:blipFill>
        <p:spPr>
          <a:xfrm>
            <a:off x="-19080" y="-9684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809" name="Рисунок 4" descr=""/>
          <p:cNvPicPr/>
          <p:nvPr/>
        </p:nvPicPr>
        <p:blipFill>
          <a:blip r:embed="rId2"/>
          <a:stretch/>
        </p:blipFill>
        <p:spPr>
          <a:xfrm>
            <a:off x="0" y="-128520"/>
            <a:ext cx="1403280" cy="685800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2" descr="C:\Users\Afanaseva\Desktop\сам.png"/>
          <p:cNvPicPr/>
          <p:nvPr/>
        </p:nvPicPr>
        <p:blipFill>
          <a:blip r:embed="rId3"/>
          <a:stretch/>
        </p:blipFill>
        <p:spPr>
          <a:xfrm>
            <a:off x="66600" y="-71280"/>
            <a:ext cx="658800" cy="858600"/>
          </a:xfrm>
          <a:prstGeom prst="rect">
            <a:avLst/>
          </a:prstGeom>
          <a:ln w="0">
            <a:noFill/>
          </a:ln>
        </p:spPr>
      </p:pic>
      <p:sp>
        <p:nvSpPr>
          <p:cNvPr id="811" name="Прямоугольник с двумя вырезанными противолежащими углами 1"/>
          <p:cNvSpPr/>
          <p:nvPr/>
        </p:nvSpPr>
        <p:spPr>
          <a:xfrm>
            <a:off x="701640" y="6405480"/>
            <a:ext cx="8371080" cy="3841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Заголовок 1"/>
          <p:cNvSpPr/>
          <p:nvPr/>
        </p:nvSpPr>
        <p:spPr>
          <a:xfrm>
            <a:off x="1619280" y="204840"/>
            <a:ext cx="70563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70c0"/>
                </a:solidFill>
                <a:latin typeface="Tahoma"/>
              </a:rPr>
              <a:t>Доля </a:t>
            </a:r>
            <a:br>
              <a:rPr sz="2100"/>
            </a:br>
            <a:r>
              <a:rPr b="1" lang="ru-RU" sz="2100" spc="-1" strike="noStrike">
                <a:solidFill>
                  <a:srgbClr val="0070c0"/>
                </a:solidFill>
                <a:latin typeface="Tahoma"/>
              </a:rPr>
              <a:t>общеобразовательных организаций, имеющих   медицинские кабинеты, к общему числу общеобразовательных организаций (%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4" name="Объект 9" descr=""/>
          <p:cNvPicPr/>
          <p:nvPr/>
        </p:nvPicPr>
        <p:blipFill>
          <a:blip r:embed="rId4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Рисунок 3" descr=""/>
          <p:cNvPicPr/>
          <p:nvPr/>
        </p:nvPicPr>
        <p:blipFill>
          <a:blip r:embed="rId1"/>
          <a:stretch/>
        </p:blipFill>
        <p:spPr>
          <a:xfrm>
            <a:off x="-19080" y="-9684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816" name="Рисунок 4" descr=""/>
          <p:cNvPicPr/>
          <p:nvPr/>
        </p:nvPicPr>
        <p:blipFill>
          <a:blip r:embed="rId2"/>
          <a:stretch/>
        </p:blipFill>
        <p:spPr>
          <a:xfrm>
            <a:off x="0" y="-128520"/>
            <a:ext cx="1403280" cy="685800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2" descr="C:\Users\Afanaseva\Desktop\сам.png"/>
          <p:cNvPicPr/>
          <p:nvPr/>
        </p:nvPicPr>
        <p:blipFill>
          <a:blip r:embed="rId3"/>
          <a:stretch/>
        </p:blipFill>
        <p:spPr>
          <a:xfrm>
            <a:off x="66600" y="-71280"/>
            <a:ext cx="658800" cy="858600"/>
          </a:xfrm>
          <a:prstGeom prst="rect">
            <a:avLst/>
          </a:prstGeom>
          <a:ln w="0">
            <a:noFill/>
          </a:ln>
        </p:spPr>
      </p:pic>
      <p:sp>
        <p:nvSpPr>
          <p:cNvPr id="818" name="Прямоугольник с двумя вырезанными противолежащими углами 1"/>
          <p:cNvSpPr/>
          <p:nvPr/>
        </p:nvSpPr>
        <p:spPr>
          <a:xfrm>
            <a:off x="701640" y="6405480"/>
            <a:ext cx="8371080" cy="3841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Заголовок 1"/>
          <p:cNvSpPr/>
          <p:nvPr/>
        </p:nvSpPr>
        <p:spPr>
          <a:xfrm>
            <a:off x="1619280" y="204840"/>
            <a:ext cx="70563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70c0"/>
                </a:solidFill>
                <a:latin typeface="Tahoma"/>
              </a:rPr>
              <a:t>Доля </a:t>
            </a:r>
            <a:br>
              <a:rPr sz="2100"/>
            </a:br>
            <a:r>
              <a:rPr b="1" lang="ru-RU" sz="2100" spc="-1" strike="noStrike">
                <a:solidFill>
                  <a:srgbClr val="0070c0"/>
                </a:solidFill>
                <a:latin typeface="Tahoma"/>
              </a:rPr>
              <a:t>общеобразовательных организаций, имеющих лицензированные медицинские кабинеты, к общему числу общеобразовательных организаций, имеющих медицинские кабинеты (%)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1" name="Объект 10" descr=""/>
          <p:cNvPicPr/>
          <p:nvPr/>
        </p:nvPicPr>
        <p:blipFill>
          <a:blip r:embed="rId4"/>
          <a:stretch/>
        </p:blipFill>
        <p:spPr>
          <a:xfrm>
            <a:off x="776160" y="1531800"/>
            <a:ext cx="7961400" cy="466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2780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Microsoft YaHei"/>
              </a:rPr>
              <a:t>Задачи в области здоровьесбережения и физического развития школьник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43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нижение негативных факторов интенсивной учебной нагрузки за счет оптимизации учебного процес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тодическая поддержка здоровьесберегающе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ониторинг здоровья 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зическог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вития школьник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мониторинг эффективности здоровьесберегающе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Формирование у школьников устойчивого интереса и потребности в регулярных занятиях физической культурой и спорто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навыков здорового образа жиз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рганизация физкультурно-оздоровительных и спортивно-массовых мероприят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22A5-EDF6-48A2-96C2-8DFD229091BB}" type="slidenum">
              <a:rPr b="0" lang="ru-RU" sz="18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13" descr=""/>
          <p:cNvPicPr/>
          <p:nvPr/>
        </p:nvPicPr>
        <p:blipFill>
          <a:blip r:embed="rId1"/>
          <a:stretch/>
        </p:blipFill>
        <p:spPr>
          <a:xfrm>
            <a:off x="847800" y="6384960"/>
            <a:ext cx="851040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1" descr=""/>
          <p:cNvPicPr/>
          <p:nvPr/>
        </p:nvPicPr>
        <p:blipFill>
          <a:blip r:embed="rId1"/>
          <a:stretch/>
        </p:blipFill>
        <p:spPr>
          <a:xfrm>
            <a:off x="-1908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2" descr=""/>
          <p:cNvPicPr/>
          <p:nvPr/>
        </p:nvPicPr>
        <p:blipFill>
          <a:blip r:embed="rId2"/>
          <a:stretch/>
        </p:blipFill>
        <p:spPr>
          <a:xfrm>
            <a:off x="0" y="-128520"/>
            <a:ext cx="1403280" cy="685476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3" descr=""/>
          <p:cNvPicPr/>
          <p:nvPr/>
        </p:nvPicPr>
        <p:blipFill>
          <a:blip r:embed="rId3"/>
          <a:stretch/>
        </p:blipFill>
        <p:spPr>
          <a:xfrm>
            <a:off x="66600" y="-71280"/>
            <a:ext cx="658800" cy="858600"/>
          </a:xfrm>
          <a:prstGeom prst="rect">
            <a:avLst/>
          </a:prstGeom>
          <a:ln w="0">
            <a:noFill/>
          </a:ln>
        </p:spPr>
      </p:pic>
      <p:sp>
        <p:nvSpPr>
          <p:cNvPr id="829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5"/>
          <p:cNvSpPr/>
          <p:nvPr/>
        </p:nvSpPr>
        <p:spPr>
          <a:xfrm>
            <a:off x="1619280" y="204840"/>
            <a:ext cx="70563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Microsoft Ya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826920" y="1600200"/>
            <a:ext cx="78598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  <a:ea typeface="Microsoft YaHei"/>
              </a:rPr>
              <a:t>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  <a:ea typeface="Microsoft YaHei"/>
              </a:rPr>
              <a:t>Благодарю за внимание!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Рисунок 3" descr=""/>
          <p:cNvPicPr/>
          <p:nvPr/>
        </p:nvPicPr>
        <p:blipFill>
          <a:blip r:embed="rId1"/>
          <a:stretch/>
        </p:blipFill>
        <p:spPr>
          <a:xfrm>
            <a:off x="-49320" y="6480"/>
            <a:ext cx="9174240" cy="688788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" descr="C:\Users\Afanaseva\Desktop\сам.png"/>
          <p:cNvPicPr/>
          <p:nvPr/>
        </p:nvPicPr>
        <p:blipFill>
          <a:blip r:embed="rId3"/>
          <a:stretch/>
        </p:blipFill>
        <p:spPr>
          <a:xfrm>
            <a:off x="971640" y="13968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570" name="Прямоугольник с двумя вырезанными противолежащими углами 1"/>
          <p:cNvSpPr/>
          <p:nvPr/>
        </p:nvSpPr>
        <p:spPr>
          <a:xfrm>
            <a:off x="701640" y="6405480"/>
            <a:ext cx="8371080" cy="3841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Заголовок 1" descr=""/>
          <p:cNvPicPr/>
          <p:nvPr/>
        </p:nvPicPr>
        <p:blipFill>
          <a:blip r:embed="rId4"/>
          <a:stretch/>
        </p:blipFill>
        <p:spPr>
          <a:xfrm>
            <a:off x="1279440" y="360360"/>
            <a:ext cx="7851960" cy="2108160"/>
          </a:xfrm>
          <a:prstGeom prst="rect">
            <a:avLst/>
          </a:prstGeom>
          <a:ln w="0">
            <a:noFill/>
          </a:ln>
        </p:spPr>
      </p:pic>
      <p:sp>
        <p:nvSpPr>
          <p:cNvPr id="572" name="Объект 2"/>
          <p:cNvSpPr/>
          <p:nvPr/>
        </p:nvSpPr>
        <p:spPr>
          <a:xfrm>
            <a:off x="900000" y="1604880"/>
            <a:ext cx="799308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Прямоугольник 2"/>
          <p:cNvSpPr/>
          <p:nvPr/>
        </p:nvSpPr>
        <p:spPr>
          <a:xfrm>
            <a:off x="1866960" y="198360"/>
            <a:ext cx="68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Tahoma"/>
              </a:rPr>
              <a:t>Динамика распространенности «школьных болезней» с момента поступления в школу до выпу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Tahoma"/>
              </a:rPr>
              <a:t>(на 1000 осмотренны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Диаграмма 6" descr=""/>
          <p:cNvPicPr/>
          <p:nvPr/>
        </p:nvPicPr>
        <p:blipFill>
          <a:blip r:embed="rId5"/>
          <a:stretch/>
        </p:blipFill>
        <p:spPr>
          <a:xfrm>
            <a:off x="849240" y="1841400"/>
            <a:ext cx="7780320" cy="4454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0" y="109440"/>
            <a:ext cx="140184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64960" y="260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Tahoma"/>
              </a:rPr>
              <a:t>ЗДОРОВЬЕ ДЕ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7" name="Объект 7"/>
          <p:cNvGrpSpPr/>
          <p:nvPr/>
        </p:nvGrpSpPr>
        <p:grpSpPr>
          <a:xfrm>
            <a:off x="196920" y="1268280"/>
            <a:ext cx="8808840" cy="4857840"/>
            <a:chOff x="196920" y="1268280"/>
            <a:chExt cx="8808840" cy="4857840"/>
          </a:xfrm>
        </p:grpSpPr>
        <p:sp>
          <p:nvSpPr>
            <p:cNvPr id="578" name="Полилиния 3"/>
            <p:cNvSpPr/>
            <p:nvPr/>
          </p:nvSpPr>
          <p:spPr>
            <a:xfrm>
              <a:off x="196920" y="4608000"/>
              <a:ext cx="8789400" cy="151812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99960" rIns="1299960" tIns="235080" bIns="235080" anchor="ctr" anchorCtr="1">
              <a:noAutofit/>
            </a:bodyPr>
            <a:p>
              <a:pPr algn="ctr">
                <a:lnSpc>
                  <a:spcPct val="90000"/>
                </a:lnSpc>
                <a:spcAft>
                  <a:spcPts val="799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Формирование у школьников потребности в здоровом образе жизн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Полилиния 4"/>
            <p:cNvSpPr/>
            <p:nvPr/>
          </p:nvSpPr>
          <p:spPr>
            <a:xfrm flipH="1" rot="12387600">
              <a:off x="2239920" y="4052880"/>
              <a:ext cx="1021680" cy="676080"/>
            </a:xfrm>
            <a:custGeom>
              <a:avLst/>
              <a:gdLst>
                <a:gd name="textAreaLeft" fmla="*/ 202680 w 1021680"/>
                <a:gd name="textAreaRight" fmla="*/ 1022040 w 1021680"/>
                <a:gd name="textAreaTop" fmla="*/ 135000 h 676080"/>
                <a:gd name="textAreaBottom" fmla="*/ 541080 h 67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4320"/>
                  </a:moveTo>
                  <a:lnTo>
                    <a:pt x="7146" y="4320"/>
                  </a:lnTo>
                  <a:lnTo>
                    <a:pt x="7146" y="0"/>
                  </a:lnTo>
                  <a:lnTo>
                    <a:pt x="0" y="10800"/>
                  </a:lnTo>
                  <a:lnTo>
                    <a:pt x="7146" y="21600"/>
                  </a:lnTo>
                  <a:lnTo>
                    <a:pt x="7146" y="17280"/>
                  </a:lnTo>
                  <a:lnTo>
                    <a:pt x="21600" y="17280"/>
                  </a:lnTo>
                  <a:lnTo>
                    <a:pt x="21600" y="4320"/>
                  </a:lnTo>
                  <a:close/>
                </a:path>
              </a:pathLst>
            </a:cu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Полилиния 5"/>
            <p:cNvSpPr/>
            <p:nvPr/>
          </p:nvSpPr>
          <p:spPr>
            <a:xfrm>
              <a:off x="199080" y="2708640"/>
              <a:ext cx="2066400" cy="18032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94680" bIns="94680" anchor="ctr" anchorCtr="1">
              <a:noAutofit/>
            </a:bodyPr>
            <a:p>
              <a:pPr algn="ctr">
                <a:lnSpc>
                  <a:spcPct val="90000"/>
                </a:lnSpc>
                <a:spcAft>
                  <a:spcPts val="901"/>
                </a:spcAft>
                <a:tabLst>
                  <a:tab algn="l" pos="0"/>
                  <a:tab algn="l" pos="976320"/>
                  <a:tab algn="l" pos="1952640"/>
                  <a:tab algn="l" pos="2928960"/>
                  <a:tab algn="l" pos="3905280"/>
                  <a:tab algn="l" pos="4881600"/>
                  <a:tab algn="l" pos="5857920"/>
                  <a:tab algn="l" pos="6834240"/>
                  <a:tab algn="l" pos="7810560"/>
                  <a:tab algn="l" pos="8786880"/>
                  <a:tab algn="l" pos="9763200"/>
                  <a:tab algn="l" pos="1073952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ahoma"/>
                </a:rPr>
                <a:t>Двигательная активност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Полилиния 6"/>
            <p:cNvSpPr/>
            <p:nvPr/>
          </p:nvSpPr>
          <p:spPr>
            <a:xfrm rot="4597200">
              <a:off x="3160440" y="3524400"/>
              <a:ext cx="1477800" cy="676080"/>
            </a:xfrm>
            <a:custGeom>
              <a:avLst/>
              <a:gdLst>
                <a:gd name="textAreaLeft" fmla="*/ 202680 w 1477800"/>
                <a:gd name="textAreaRight" fmla="*/ 1478160 w 1477800"/>
                <a:gd name="textAreaTop" fmla="*/ 135000 h 676080"/>
                <a:gd name="textAreaBottom" fmla="*/ 541080 h 67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4320"/>
                  </a:moveTo>
                  <a:lnTo>
                    <a:pt x="4941" y="4320"/>
                  </a:lnTo>
                  <a:lnTo>
                    <a:pt x="4941" y="0"/>
                  </a:lnTo>
                  <a:lnTo>
                    <a:pt x="0" y="10800"/>
                  </a:lnTo>
                  <a:lnTo>
                    <a:pt x="4941" y="21600"/>
                  </a:lnTo>
                  <a:lnTo>
                    <a:pt x="4941" y="17280"/>
                  </a:lnTo>
                  <a:lnTo>
                    <a:pt x="21600" y="17280"/>
                  </a:lnTo>
                  <a:lnTo>
                    <a:pt x="21600" y="4320"/>
                  </a:lnTo>
                  <a:close/>
                </a:path>
              </a:pathLst>
            </a:cu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Полилиния 7"/>
            <p:cNvSpPr/>
            <p:nvPr/>
          </p:nvSpPr>
          <p:spPr>
            <a:xfrm>
              <a:off x="1975320" y="1268280"/>
              <a:ext cx="2328120" cy="18032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98640" bIns="98640" anchor="ctr" anchorCtr="1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Пит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Полилиния 8"/>
            <p:cNvSpPr/>
            <p:nvPr/>
          </p:nvSpPr>
          <p:spPr>
            <a:xfrm rot="7004400">
              <a:off x="4472640" y="3540600"/>
              <a:ext cx="1633320" cy="676080"/>
            </a:xfrm>
            <a:custGeom>
              <a:avLst/>
              <a:gdLst>
                <a:gd name="textAreaLeft" fmla="*/ 202680 w 1633320"/>
                <a:gd name="textAreaRight" fmla="*/ 1633680 w 1633320"/>
                <a:gd name="textAreaTop" fmla="*/ 135000 h 676080"/>
                <a:gd name="textAreaBottom" fmla="*/ 541080 h 67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4320"/>
                  </a:moveTo>
                  <a:lnTo>
                    <a:pt x="4471" y="4320"/>
                  </a:lnTo>
                  <a:lnTo>
                    <a:pt x="4471" y="0"/>
                  </a:lnTo>
                  <a:lnTo>
                    <a:pt x="0" y="10800"/>
                  </a:lnTo>
                  <a:lnTo>
                    <a:pt x="4471" y="21600"/>
                  </a:lnTo>
                  <a:lnTo>
                    <a:pt x="4471" y="17280"/>
                  </a:lnTo>
                  <a:lnTo>
                    <a:pt x="21600" y="17280"/>
                  </a:lnTo>
                  <a:lnTo>
                    <a:pt x="21600" y="4320"/>
                  </a:lnTo>
                  <a:close/>
                </a:path>
              </a:pathLst>
            </a:cu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Полилиния 9"/>
            <p:cNvSpPr/>
            <p:nvPr/>
          </p:nvSpPr>
          <p:spPr>
            <a:xfrm>
              <a:off x="4807800" y="1268280"/>
              <a:ext cx="2628360" cy="18032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94680" bIns="94680" anchor="ctr" anchorCtr="1">
              <a:noAutofit/>
            </a:bodyPr>
            <a:p>
              <a:pPr algn="ctr">
                <a:lnSpc>
                  <a:spcPct val="90000"/>
                </a:lnSpc>
                <a:spcAft>
                  <a:spcPts val="901"/>
                </a:spcAft>
                <a:tabLst>
                  <a:tab algn="l" pos="0"/>
                  <a:tab algn="l" pos="976320"/>
                  <a:tab algn="l" pos="1952640"/>
                  <a:tab algn="l" pos="2928960"/>
                  <a:tab algn="l" pos="3905280"/>
                  <a:tab algn="l" pos="4881600"/>
                  <a:tab algn="l" pos="5857920"/>
                  <a:tab algn="l" pos="6834240"/>
                  <a:tab algn="l" pos="7810560"/>
                  <a:tab algn="l" pos="8786880"/>
                  <a:tab algn="l" pos="9763200"/>
                  <a:tab algn="l" pos="1073952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ahoma"/>
                </a:rPr>
                <a:t>Система профилактик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901"/>
                </a:spcAft>
                <a:tabLst>
                  <a:tab algn="l" pos="0"/>
                  <a:tab algn="l" pos="976320"/>
                  <a:tab algn="l" pos="1952640"/>
                  <a:tab algn="l" pos="2928960"/>
                  <a:tab algn="l" pos="3905280"/>
                  <a:tab algn="l" pos="4881600"/>
                  <a:tab algn="l" pos="5857920"/>
                  <a:tab algn="l" pos="6834240"/>
                  <a:tab algn="l" pos="7810560"/>
                  <a:tab algn="l" pos="8786880"/>
                  <a:tab algn="l" pos="9763200"/>
                  <a:tab algn="l" pos="107395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Полилиния 10"/>
            <p:cNvSpPr/>
            <p:nvPr/>
          </p:nvSpPr>
          <p:spPr>
            <a:xfrm flipH="1" rot="20051400">
              <a:off x="5762880" y="3997080"/>
              <a:ext cx="1112400" cy="676080"/>
            </a:xfrm>
            <a:custGeom>
              <a:avLst/>
              <a:gdLst>
                <a:gd name="textAreaLeft" fmla="*/ 203040 w 1112400"/>
                <a:gd name="textAreaRight" fmla="*/ 1112760 w 1112400"/>
                <a:gd name="textAreaTop" fmla="*/ 135000 h 676080"/>
                <a:gd name="textAreaBottom" fmla="*/ 541080 h 67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4320"/>
                  </a:moveTo>
                  <a:lnTo>
                    <a:pt x="6565" y="4320"/>
                  </a:lnTo>
                  <a:lnTo>
                    <a:pt x="6565" y="0"/>
                  </a:lnTo>
                  <a:lnTo>
                    <a:pt x="0" y="10800"/>
                  </a:lnTo>
                  <a:lnTo>
                    <a:pt x="6565" y="21600"/>
                  </a:lnTo>
                  <a:lnTo>
                    <a:pt x="6565" y="17280"/>
                  </a:lnTo>
                  <a:lnTo>
                    <a:pt x="21600" y="17280"/>
                  </a:lnTo>
                  <a:lnTo>
                    <a:pt x="21600" y="4320"/>
                  </a:lnTo>
                  <a:close/>
                </a:path>
              </a:pathLst>
            </a:cu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Полилиния 11"/>
            <p:cNvSpPr/>
            <p:nvPr/>
          </p:nvSpPr>
          <p:spPr>
            <a:xfrm>
              <a:off x="6751800" y="2711520"/>
              <a:ext cx="2253960" cy="165348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960" rIns="93960" tIns="93960" bIns="93960" anchor="ctr" anchorCtr="1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Отказ от вредных привыче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C281-4063-46FC-91D0-35BE7033023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727200" y="6356520"/>
            <a:ext cx="851040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"/>
          <p:cNvPicPr/>
          <p:nvPr/>
        </p:nvPicPr>
        <p:blipFill>
          <a:blip r:embed="rId1"/>
          <a:stretch/>
        </p:blipFill>
        <p:spPr>
          <a:xfrm>
            <a:off x="0" y="-34920"/>
            <a:ext cx="140184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154080" y="1047600"/>
            <a:ext cx="903600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Развитие сети школ, содействующих здоровь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Реализация профилактических образовательных програм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Вовлечение семей обучающихся в программы по формированию здорового образа жизни («Путь к успеху»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Участие школьников в профилактической работе, реализации социально-значимых проектов («Основы лидерства», «Самостоятельные дети» и др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ализация проекта «Раннее выявление отклонений в состоянии здоровья детей с использованием аппаратно-программного комплекса «АРМИС»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Реализация проекта «Путь к здоровью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Спортивно-массовые проекты (ВФСК ГТО, ШБЛ «КЭС-БАСКЕТ»,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сероссийские спортивные соревнования школьников «Президентские состязания» и «Президентские спортивные игры»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042C-D04D-419F-9593-28A6B89FD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Tahoma"/>
              </a:rPr>
              <a:t>Основные здоровьесберегающие проек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6EEC-B355-4BE9-AC27-9C15FB9B4BE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C68E-DF01-4144-BCE7-73F564E2337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3" descr=""/>
          <p:cNvPicPr/>
          <p:nvPr/>
        </p:nvPicPr>
        <p:blipFill>
          <a:blip r:embed="rId2"/>
          <a:stretch/>
        </p:blipFill>
        <p:spPr>
          <a:xfrm>
            <a:off x="700200" y="6423120"/>
            <a:ext cx="851040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Tahoma"/>
              </a:rPr>
              <a:t>Школы, содействующие здоровь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7560" y="907560"/>
            <a:ext cx="4995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ритер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ahoma"/>
              </a:rPr>
              <a:t>Бронзовый уровен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. Инфраструкту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. Физическое развит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двигательная актив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. Пита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4. Превентивные мер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ahoma"/>
              </a:rPr>
              <a:t>Серебряный уровен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-4, 5. Профильные образовательные программ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ahoma"/>
              </a:rPr>
              <a:t>Золотой уровен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-5, 6. Кадр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7. Политика содействия здоровь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8.   Социальное партнерств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6531-3BEF-47A9-B435-8663A088F22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Объект 12" descr=""/>
          <p:cNvPicPr/>
          <p:nvPr/>
        </p:nvPicPr>
        <p:blipFill>
          <a:blip r:embed="rId1"/>
          <a:stretch/>
        </p:blipFill>
        <p:spPr>
          <a:xfrm>
            <a:off x="4737240" y="1074600"/>
            <a:ext cx="4389120" cy="44928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3" descr=""/>
          <p:cNvPicPr/>
          <p:nvPr/>
        </p:nvPicPr>
        <p:blipFill>
          <a:blip r:embed="rId2"/>
          <a:stretch/>
        </p:blipFill>
        <p:spPr>
          <a:xfrm>
            <a:off x="847800" y="6384960"/>
            <a:ext cx="851040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Tahoma"/>
              </a:rPr>
              <a:t>Реализация технологий массовой первичной профилактики «школьных форм патологий»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Tahoma"/>
              </a:rPr>
              <a:t> (технологии В.Ф Базарного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B81F-09D7-4B45-92AB-76A66A0706F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2" descr="C:\Users\Соркина\Documents\Совещания\Дни Татарстана в Москве\МОСКВА\P1070617.JPG"/>
          <p:cNvPicPr/>
          <p:nvPr/>
        </p:nvPicPr>
        <p:blipFill>
          <a:blip r:embed="rId1"/>
          <a:stretch/>
        </p:blipFill>
        <p:spPr>
          <a:xfrm>
            <a:off x="0" y="1353960"/>
            <a:ext cx="4788000" cy="26640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" descr="C:\Users\Соркина\Documents\Совещания\Дни Татарстана в Москве\МОСКВА\P1070640.JPG"/>
          <p:cNvPicPr/>
          <p:nvPr/>
        </p:nvPicPr>
        <p:blipFill>
          <a:blip r:embed="rId2"/>
          <a:stretch/>
        </p:blipFill>
        <p:spPr>
          <a:xfrm>
            <a:off x="4764240" y="1353960"/>
            <a:ext cx="4379760" cy="27226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" descr="C:\Users\BA79~1\AppData\Local\Temp\Rar$DI18.672\IMG_9740.JPG"/>
          <p:cNvPicPr/>
          <p:nvPr/>
        </p:nvPicPr>
        <p:blipFill>
          <a:blip r:embed="rId3"/>
          <a:stretch/>
        </p:blipFill>
        <p:spPr>
          <a:xfrm>
            <a:off x="-52560" y="3478320"/>
            <a:ext cx="4695840" cy="23400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C:\Users\BA79~1\AppData\Local\Temp\Rar$DI23.422\P1120004.JPG"/>
          <p:cNvPicPr/>
          <p:nvPr/>
        </p:nvPicPr>
        <p:blipFill>
          <a:blip r:embed="rId4"/>
          <a:stretch/>
        </p:blipFill>
        <p:spPr>
          <a:xfrm>
            <a:off x="4643280" y="3789360"/>
            <a:ext cx="4500720" cy="19861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3" descr=""/>
          <p:cNvPicPr/>
          <p:nvPr/>
        </p:nvPicPr>
        <p:blipFill>
          <a:blip r:embed="rId5"/>
          <a:stretch/>
        </p:blipFill>
        <p:spPr>
          <a:xfrm>
            <a:off x="847800" y="6384960"/>
            <a:ext cx="8510400" cy="596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6:57:32Z</dcterms:created>
  <dc:creator>Админ</dc:creator>
  <dc:description/>
  <dc:language>en-US</dc:language>
  <cp:lastModifiedBy>Соркина</cp:lastModifiedBy>
  <cp:lastPrinted>2014-10-30T13:24:57Z</cp:lastPrinted>
  <dcterms:modified xsi:type="dcterms:W3CDTF">2014-11-01T08:04:41Z</dcterms:modified>
  <cp:revision>524</cp:revision>
  <dc:subject/>
  <dc:title>Слайд 1</dc:title>
</cp:coreProperties>
</file>